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735-E072-4E32-9D15-71D2CE7C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C244-D1D1-4BA1-9AFA-FA2A8B79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6076-9758-44CD-A8AE-08953C5B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F10-881C-477B-9CFC-68149F46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578B-8ED1-4587-86F0-4F14763E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2B97-68CA-4AF8-B925-5A258C21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581E-6EF7-431D-8410-A0445F8A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46BC-FAB9-49A6-BAFD-0B64C1EE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D365-7905-47C2-B1F9-FAC86908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85EB-6EE8-4AFF-9CBF-CC627B61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8EA1-CC97-4C6C-A353-3FEE8836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710E-5B65-42DC-8F6B-05E49293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0A5D-C495-4230-95E8-0B68EFE2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6CFC-E712-459D-A2BD-FD14A424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E27B-E507-4069-A1FC-00698C88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50F9-CB5E-4889-8E27-3B174193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9805-2C08-4C4E-BC5F-0DC39DF7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5A53A-F6EA-40BB-9BDD-4C90ACD4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4A96A-3D0B-4AC5-B152-3A6B8C8A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188AE-5204-44B5-9DB2-481C07BA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A29B8-4952-4FBA-9385-2ECE26B1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ED56C-38F0-4CF3-B46B-F323CA66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2513-B28F-407A-9D92-DBB2933D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3DE2D-EEF5-4D61-82D6-A9827B85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F7F15-6739-4C25-A267-ACFF5885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E5D30-317B-42F0-AA51-2AD88AD9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965F7-1F92-4D5F-868A-5711867E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1FC25-72B7-488F-A9D3-01727086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A9DE4-BE73-4D79-B88E-4EC2C752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B71D0-347A-4535-8864-70E2CBA8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8D9-CF2F-4AF2-8CB5-9E9F4FA9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B3E8-F6E0-4E51-AF57-34C245E6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2EE-E3BB-45FE-AD59-907AEF99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E7F-4C72-4CE9-998A-8DCF37C0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3FCF-076C-432D-B1AF-EFF0CB85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C7DA-9BA5-49FF-B165-1545D9C7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9962-FD47-4F28-BB1B-2E1E0C0E55D9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0B09-88F8-4309-A2CD-AB3028AE8351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8227-EB3B-4E08-80AF-7EB910C3E99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ymxx@140.129.162.1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ac.nchc.org.tw/grid/wiki/mpich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-unix.mcs.anl.gov/mpi/mpich1/doc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trac.nchc.org.tw/grid/changeset/1" TargetMode="External"/><Relationship Id="rId2" Type="http://schemas.openxmlformats.org/officeDocument/2006/relationships/hyperlink" Target="https://trac.nchc.org.tw/grid/changeset/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平行運算簡介／實例操作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企鵝也會的 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鄧偉華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wade@nchc.org.tw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6126120"/>
            <a:ext cx="4572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06560" y="4221000"/>
            <a:ext cx="1296720" cy="720720"/>
            <a:chOff x="1906560" y="4221000"/>
            <a:chExt cx="1296720" cy="720720"/>
          </a:xfrm>
        </p:grpSpPr>
        <p:sp>
          <p:nvSpPr>
            <p:cNvPr id="228" name=""/>
            <p:cNvSpPr/>
            <p:nvPr/>
          </p:nvSpPr>
          <p:spPr>
            <a:xfrm>
              <a:off x="190656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092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51640" y="4221000"/>
            <a:ext cx="1296720" cy="720720"/>
            <a:chOff x="5651640" y="4221000"/>
            <a:chExt cx="1296720" cy="720720"/>
          </a:xfrm>
        </p:grpSpPr>
        <p:sp>
          <p:nvSpPr>
            <p:cNvPr id="231" name=""/>
            <p:cNvSpPr/>
            <p:nvPr/>
          </p:nvSpPr>
          <p:spPr>
            <a:xfrm>
              <a:off x="565164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600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33" name=""/>
          <p:cNvCxnSpPr>
            <a:stCxn id="228" idx="3"/>
            <a:endCxn id="231" idx="1"/>
          </p:cNvCxnSpPr>
          <p:nvPr/>
        </p:nvCxnSpPr>
        <p:spPr>
          <a:xfrm>
            <a:off x="3203640" y="4581000"/>
            <a:ext cx="244872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5506920" y="44388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0560" y="44370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間只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傳訊息給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2.58094E-006 L -0.2559 -0.00023 E">
                                      <p:cBhvr>
                                        <p:cTn id="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7" name=""/>
          <p:cNvCxnSpPr>
            <a:stCxn id="238" idx="3"/>
            <a:endCxn id="239" idx="1"/>
          </p:cNvCxnSpPr>
          <p:nvPr/>
        </p:nvCxnSpPr>
        <p:spPr>
          <a:xfrm>
            <a:off x="3203640" y="486900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>
            <a:off x="3203640" y="486900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6560" y="4508640"/>
            <a:ext cx="1296720" cy="720720"/>
            <a:chOff x="1906560" y="4508640"/>
            <a:chExt cx="1296720" cy="720720"/>
          </a:xfrm>
        </p:grpSpPr>
        <p:sp>
          <p:nvSpPr>
            <p:cNvPr id="238" name=""/>
            <p:cNvSpPr/>
            <p:nvPr/>
          </p:nvSpPr>
          <p:spPr>
            <a:xfrm>
              <a:off x="1906560" y="450864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0920" y="465156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51640" y="2924280"/>
            <a:ext cx="1296720" cy="720720"/>
            <a:chOff x="5651640" y="2924280"/>
            <a:chExt cx="1296720" cy="720720"/>
          </a:xfrm>
        </p:grpSpPr>
        <p:sp>
          <p:nvSpPr>
            <p:cNvPr id="247" name=""/>
            <p:cNvSpPr/>
            <p:nvPr/>
          </p:nvSpPr>
          <p:spPr>
            <a:xfrm>
              <a:off x="5651640" y="29242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30672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49" name=""/>
          <p:cNvCxnSpPr>
            <a:stCxn id="238" idx="3"/>
            <a:endCxn id="247" idx="1"/>
          </p:cNvCxnSpPr>
          <p:nvPr/>
        </p:nvCxnSpPr>
        <p:spPr>
          <a:xfrm flipV="1">
            <a:off x="3203640" y="328392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50" name=""/>
          <p:cNvGrpSpPr/>
          <p:nvPr/>
        </p:nvGrpSpPr>
        <p:grpSpPr>
          <a:xfrm>
            <a:off x="5653080" y="4003560"/>
            <a:ext cx="1296720" cy="720720"/>
            <a:chOff x="5653080" y="4003560"/>
            <a:chExt cx="1296720" cy="720720"/>
          </a:xfrm>
        </p:grpSpPr>
        <p:sp>
          <p:nvSpPr>
            <p:cNvPr id="251" name=""/>
            <p:cNvSpPr/>
            <p:nvPr/>
          </p:nvSpPr>
          <p:spPr>
            <a:xfrm>
              <a:off x="5653080" y="4003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7440" y="4146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653080" y="5011560"/>
            <a:ext cx="1296720" cy="720720"/>
            <a:chOff x="5653080" y="5011560"/>
            <a:chExt cx="1296720" cy="720720"/>
          </a:xfrm>
        </p:grpSpPr>
        <p:sp>
          <p:nvSpPr>
            <p:cNvPr id="239" name=""/>
            <p:cNvSpPr/>
            <p:nvPr/>
          </p:nvSpPr>
          <p:spPr>
            <a:xfrm>
              <a:off x="5653080" y="5011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7440" y="5154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53080" y="6019920"/>
            <a:ext cx="1296720" cy="720720"/>
            <a:chOff x="5653080" y="6019920"/>
            <a:chExt cx="1296720" cy="720720"/>
          </a:xfrm>
        </p:grpSpPr>
        <p:sp>
          <p:nvSpPr>
            <p:cNvPr id="241" name=""/>
            <p:cNvSpPr/>
            <p:nvPr/>
          </p:nvSpPr>
          <p:spPr>
            <a:xfrm>
              <a:off x="5653080" y="60199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7440" y="61628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57" name=""/>
          <p:cNvCxnSpPr>
            <a:stCxn id="238" idx="3"/>
            <a:endCxn id="251" idx="1"/>
          </p:cNvCxnSpPr>
          <p:nvPr/>
        </p:nvCxnSpPr>
        <p:spPr>
          <a:xfrm flipV="1">
            <a:off x="3203640" y="4363200"/>
            <a:ext cx="2449800" cy="5058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059280" y="472428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333 -0.00185 L 0.13333 -0.23148 L 0.26667 -0.23148 E">
                                      <p:cBhvr>
                                        <p:cTn id="27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13472 2.96296E-006 L 0.13472 -0.07407 L 0.26806 -0.07407 E">
                                      <p:cBhvr>
                                        <p:cTn id="30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472 2.96296E-006 L 0.13472 0.07222 L 0.26667 0.07222 E">
                                      <p:cBhvr>
                                        <p:cTn id="33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3333 1.11111E-006 L 0.13333 0.22037 L 0.26944 0.22037 E">
                                      <p:cBhvr>
                                        <p:cTn id="36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"/>
          <p:cNvCxnSpPr>
            <a:stCxn id="260" idx="3"/>
            <a:endCxn id="261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4" name=""/>
          <p:cNvCxnSpPr>
            <a:stCxn id="260" idx="3"/>
            <a:endCxn id="265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也可以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60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71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73" name=""/>
          <p:cNvCxnSpPr>
            <a:stCxn id="260" idx="3"/>
            <a:endCxn id="271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63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65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61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4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54" dur="3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63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72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傳訊息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7" idx="3"/>
            <a:endCxn id="288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89" name=""/>
          <p:cNvCxnSpPr>
            <a:stCxn id="287" idx="3"/>
            <a:endCxn id="290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91" name=""/>
          <p:cNvCxnSpPr>
            <a:stCxn id="287" idx="3"/>
            <a:endCxn id="292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93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87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96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7" idx="3"/>
            <a:endCxn id="296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90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92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88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83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87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91" dur="3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95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11" idx="3"/>
            <a:endCxn id="312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3" name=""/>
          <p:cNvCxnSpPr>
            <a:stCxn id="311" idx="3"/>
            <a:endCxn id="314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5" name=""/>
          <p:cNvCxnSpPr>
            <a:stCxn id="311" idx="3"/>
            <a:endCxn id="316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11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20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22" name=""/>
          <p:cNvCxnSpPr>
            <a:stCxn id="311" idx="3"/>
            <a:endCxn id="320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14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16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12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4653000"/>
            <a:ext cx="43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每個訊息做完運算後再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107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111" dur="3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11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登入主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 </a:t>
            </a:r>
            <a:r>
              <a:rPr b="0" lang="zh-TW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mxx@140.129.162.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入密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產生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public key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-keygen -t 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一直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nter.....enter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將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d_rsa.pub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更名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uthorized_keys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 .ssh/id_rsa.pub .ssh/authorized_key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.conf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cho "MPD_SECRETWORD=${user}$$" &gt; ~/.mpd.con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更改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.mpd.conf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權限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chmod 600 .mpd.conf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pd.hosts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nodes IP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填入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for ((i=2;i&lt;=7;i++)); do echo "192.168.129.$i" &gt;&gt; mpd.hosts; d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路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export PATH=$PATH:/opt/mpich2/bi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測試路徑是正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which 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正常顯示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/opt/mpich2/bin/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kdir .d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cp mpd.hosts .dsh/machines.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dsh -a host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啟動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boo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並開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測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正常啟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ringtest 1000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釋放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執行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程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4 [ -f machine_file 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n how many mpds to sta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f hostsfi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列出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執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exec -n 12 ./mpi/a.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結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974520"/>
            <a:ext cx="64166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如何使用載入／啟動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3720" y="2403000"/>
            <a:ext cx="59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mpi.h&gt;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ain (int argc, char **arg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Init(&amp;argc, &amp;argv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size (MPI_COMM_WORLD,  &amp;numprocs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rank (MPI_COMM_WORLD,  &amp;myid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Finalize(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2708280"/>
            <a:ext cx="22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716280"/>
            <a:ext cx="2664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52000" y="3056760"/>
            <a:ext cx="306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啟動該程式在多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的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5157720"/>
            <a:ext cx="2664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84840" y="5664960"/>
            <a:ext cx="141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結束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76640"/>
            <a:ext cx="58341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49680" y="3577320"/>
            <a:ext cx="316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參與平行計算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pro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42920" y="4365720"/>
            <a:ext cx="56167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8880" y="4801320"/>
            <a:ext cx="299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我是第幾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 (myid) from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9BCD-DE64-4BB3-A71D-8044C7C6A836}" type="slidenum">
              <a:t>19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傳統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3673440"/>
            <a:ext cx="7693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印出，並且將所有的參與活動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總數也印出，顯示出自己的主機名稱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ain (int argc, char **argv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rank, size, len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char name[MPI_MAX_PROCESSOR_NAME]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總數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id / rank *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rank(MPI_COMM_WORLD,&amp;myid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host name 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Get_processor_name(name, &amp;len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printf("This is machine %d of %d name = %s\n“, myid, numprocs, name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S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_Send ((void *)&amp;data, icount, DATA_TYPE, idest, itag, MPI_COMM_WORL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es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c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 void *buf, int count, MPI_Datatype datatype, int source, int tag, MPI_Comm comm, MPI_Status *status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資訊送給下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22560" y="4437000"/>
            <a:ext cx="1296720" cy="720720"/>
            <a:chOff x="2122560" y="4437000"/>
            <a:chExt cx="1296720" cy="720720"/>
          </a:xfrm>
        </p:grpSpPr>
        <p:sp>
          <p:nvSpPr>
            <p:cNvPr id="367" name=""/>
            <p:cNvSpPr/>
            <p:nvPr/>
          </p:nvSpPr>
          <p:spPr>
            <a:xfrm>
              <a:off x="212256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692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867280" y="4437000"/>
            <a:ext cx="1296720" cy="720720"/>
            <a:chOff x="5867280" y="4437000"/>
            <a:chExt cx="1296720" cy="720720"/>
          </a:xfrm>
        </p:grpSpPr>
        <p:sp>
          <p:nvSpPr>
            <p:cNvPr id="370" name=""/>
            <p:cNvSpPr/>
            <p:nvPr/>
          </p:nvSpPr>
          <p:spPr>
            <a:xfrm>
              <a:off x="586728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164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2" name=""/>
          <p:cNvCxnSpPr>
            <a:stCxn id="367" idx="3"/>
            <a:endCxn id="370" idx="1"/>
          </p:cNvCxnSpPr>
          <p:nvPr/>
        </p:nvCxnSpPr>
        <p:spPr>
          <a:xfrm>
            <a:off x="3419280" y="4797000"/>
            <a:ext cx="244836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73" name=""/>
          <p:cNvGrpSpPr/>
          <p:nvPr/>
        </p:nvGrpSpPr>
        <p:grpSpPr>
          <a:xfrm>
            <a:off x="3995640" y="5950080"/>
            <a:ext cx="1296720" cy="720720"/>
            <a:chOff x="3995640" y="5950080"/>
            <a:chExt cx="1296720" cy="720720"/>
          </a:xfrm>
        </p:grpSpPr>
        <p:sp>
          <p:nvSpPr>
            <p:cNvPr id="374" name=""/>
            <p:cNvSpPr/>
            <p:nvPr/>
          </p:nvSpPr>
          <p:spPr>
            <a:xfrm>
              <a:off x="3995640" y="595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40000" y="609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6" name=""/>
          <p:cNvCxnSpPr>
            <a:stCxn id="367" idx="2"/>
            <a:endCxn id="374" idx="1"/>
          </p:cNvCxnSpPr>
          <p:nvPr/>
        </p:nvCxnSpPr>
        <p:spPr>
          <a:xfrm flipH="1" rot="16200000">
            <a:off x="2807280" y="512172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77" name=""/>
          <p:cNvCxnSpPr>
            <a:stCxn id="370" idx="2"/>
            <a:endCxn id="374" idx="3"/>
          </p:cNvCxnSpPr>
          <p:nvPr/>
        </p:nvCxnSpPr>
        <p:spPr>
          <a:xfrm rot="5400000">
            <a:off x="5327640" y="512208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291636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609300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0139 0.00185 E">
                                      <p:cBhvr>
                                        <p:cTn id="198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04028 0.05 L -0.04028 0.21667 L -0.17361 0.21667 E">
                                      <p:cBhvr>
                                        <p:cTn id="20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444 -0.00185 L -0.24444 -0.17037 E">
                                      <p:cBhvr>
                                        <p:cTn id="216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mpi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ain(int argc,char **argv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nt n, myrank, numproc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tatus stat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Init(&amp;argc,&amp;arg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rank(MPI_COMM_WORLD,&amp;myra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0 will send the first messag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end(&amp;n, 1, MPI_INT, 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1 to node n-2 will send message to the next nod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&gt;0 &amp;&amp; myrank&lt;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 MPI_Send(&amp;n, 1, MPI_INT, myrank+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the final node n-1 will not send any message but receive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==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傳送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由，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統一印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5" idx="3"/>
            <a:endCxn id="386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7" name=""/>
          <p:cNvCxnSpPr>
            <a:stCxn id="385" idx="3"/>
            <a:endCxn id="388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9" name=""/>
          <p:cNvCxnSpPr>
            <a:stCxn id="385" idx="3"/>
            <a:endCxn id="390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91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85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94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96" name=""/>
          <p:cNvCxnSpPr>
            <a:stCxn id="385" idx="3"/>
            <a:endCxn id="394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88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90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86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228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237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246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255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ain(int argc, char **argv)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Node 0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== 0) 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receive messages from other nodes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other Nodes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!= 0) {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send node's rank to Node 0 *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Send(message, 20, MPI_CHAR, 0, 99, MPI_COMM_WORLD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續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程序切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4002120"/>
            <a:ext cx="7993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再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接受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訊息，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標上不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 (0, 1, 2...)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後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51280" y="4581360"/>
            <a:ext cx="1296720" cy="720720"/>
            <a:chOff x="3851280" y="4581360"/>
            <a:chExt cx="1296720" cy="720720"/>
          </a:xfrm>
        </p:grpSpPr>
        <p:sp>
          <p:nvSpPr>
            <p:cNvPr id="414" name=""/>
            <p:cNvSpPr/>
            <p:nvPr/>
          </p:nvSpPr>
          <p:spPr>
            <a:xfrm>
              <a:off x="385128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564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946920" y="4581360"/>
            <a:ext cx="1296720" cy="720720"/>
            <a:chOff x="6946920" y="4581360"/>
            <a:chExt cx="1296720" cy="720720"/>
          </a:xfrm>
        </p:grpSpPr>
        <p:sp>
          <p:nvSpPr>
            <p:cNvPr id="417" name=""/>
            <p:cNvSpPr/>
            <p:nvPr/>
          </p:nvSpPr>
          <p:spPr>
            <a:xfrm>
              <a:off x="694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19" name=""/>
          <p:cNvCxnSpPr>
            <a:stCxn id="414" idx="3"/>
            <a:endCxn id="417" idx="1"/>
          </p:cNvCxnSpPr>
          <p:nvPr/>
        </p:nvCxnSpPr>
        <p:spPr>
          <a:xfrm>
            <a:off x="5148360" y="4941360"/>
            <a:ext cx="179928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420" name=""/>
          <p:cNvGrpSpPr/>
          <p:nvPr/>
        </p:nvGrpSpPr>
        <p:grpSpPr>
          <a:xfrm>
            <a:off x="826920" y="4581360"/>
            <a:ext cx="1296720" cy="720720"/>
            <a:chOff x="826920" y="4581360"/>
            <a:chExt cx="1296720" cy="720720"/>
          </a:xfrm>
        </p:grpSpPr>
        <p:sp>
          <p:nvSpPr>
            <p:cNvPr id="421" name=""/>
            <p:cNvSpPr/>
            <p:nvPr/>
          </p:nvSpPr>
          <p:spPr>
            <a:xfrm>
              <a:off x="82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23" name=""/>
          <p:cNvCxnSpPr>
            <a:stCxn id="414" idx="1"/>
            <a:endCxn id="421" idx="3"/>
          </p:cNvCxnSpPr>
          <p:nvPr/>
        </p:nvCxnSpPr>
        <p:spPr>
          <a:xfrm rot="10800000">
            <a:off x="2123280" y="4941000"/>
            <a:ext cx="172800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80400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0.19305 0.00023 E">
                                      <p:cBhvr>
                                        <p:cTn id="26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19027 0.00023 E">
                                      <p:cBhvr>
                                        <p:cTn id="2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SOURC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訊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TAG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du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duce ( void *sendbuf, void *recvbuf, int count, MPI_Datatype datatype, MPI_Op op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endbuf   address of send buffer (choi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     number of elements in send buffer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data type of elements of send buffer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op            reduce operation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ank of root process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communicator (handle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計算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1 + 2 + 3 + .... +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mpi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rank, size, i; int myid, numprocs; int myTotal = 0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Total = 0; MPI_Init(&amp;argc, &amp;argv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rank(MPI_COMM_WORLD, &amp;myi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for(i = 1; i &lt;= 100; i++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(i % numprocs) == myid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yTotal += i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Reduce(&amp;myTotal, &amp;Total, 1, MPI_INT, MPI_SUM, 0,MPI_COMM_WORL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myid==0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printf("Total = %d\n", Total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53182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計算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從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加至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總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n) = f(n - 1) + f(n -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0) = 1, f(1) =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1, 1, 2, 3, 5, 8, 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c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Bcast ( void *buffer, int count, MPI_Datatype datatype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fer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buffe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oo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 (rank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多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(MPI_Comm comm 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需要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為了讓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只有當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執行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時，所以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再繼續往下執行下面的程式碼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要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簡省時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解決大型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即時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更多來自網路上的資源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大量「便宜」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C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取代超級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記憶體不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負責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則有可能出現以下情形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順利比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先執行到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cast A=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送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還未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  <a:ea typeface="標楷體"/>
              </a:rPr>
              <a:t>MPI_Bcas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=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print A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則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中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結果就不會同步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4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250" autoRev="1" fill="hold"/>
                                        <p:tgtEl>
                                          <p:spTgt spid="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有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此時不管那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皆會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等待，直至全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執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時才會繼續往下執行程式碼，如此一來才可確保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使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都改為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9856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544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1200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2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i = 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rank(MPI_COMM_WORLD, &amp;myi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這邊先印出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初始狀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要求使用者輸入一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f (myid == 0) 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Please input a INT number &gt;&gt;"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scanf("%d", &amp;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將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值設為使用者所輸入的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cast(&amp;i, 1, MPI_INT, 0, MPI_COMM_WORL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所有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在此同步，以確認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已將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送給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*/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arrier(MPI_COMM_WORLD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8080" y="4797360"/>
            <a:ext cx="76932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我們可以發現到第二行很明顯的不同，這就是前面介紹，不一定誰會先執行到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RIN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指令，所以我在第四行才能輸入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然後底下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被設為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0" t="0" r="20818" b="0"/>
          <a:stretch/>
        </p:blipFill>
        <p:spPr>
          <a:xfrm>
            <a:off x="755640" y="2292480"/>
            <a:ext cx="6840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設計注意事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CH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屬於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SIM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架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指令及資料量切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優：有助於平行運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Arial"/>
              </a:rPr>
              <a:t>缺：增加傳輸次數及傳輸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websit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rac.nchc.org.tw/grid/wiki/mp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ail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wade@nchc.org.t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參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-unix.mcs.anl.gov/mpi/mpich1/docs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-unix.mcs.anl.gov/mpi/www/www3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.mpi-forum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計算種類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Flynn's tax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處理器架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3573360"/>
          <a:ext cx="7693200" cy="2946600"/>
        </p:xfrm>
        <a:graphic>
          <a:graphicData uri="http://schemas.openxmlformats.org/drawingml/2006/table">
            <a:tbl>
              <a:tblPr/>
              <a:tblGrid>
                <a:gridCol w="2365560"/>
                <a:gridCol w="2592360"/>
                <a:gridCol w="27352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ngle Instruction, Single Data (S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非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1 + 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 1 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508644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S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b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是二組陣列，則同一時間就可以計算完成。而不需要算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0]  = 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[0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1]  =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[1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…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n]  = b[n]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516640"/>
            <a:ext cx="748980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b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0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………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560" y="3933720"/>
            <a:ext cx="6481800" cy="790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M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(2 + 3) + (2 - 3) + (2 * 3) + (2 / 3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+ 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-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*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229360"/>
            <a:ext cx="1368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/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6453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6" idx="2"/>
            <a:endCxn id="186" idx="0"/>
          </p:cNvCxnSpPr>
          <p:nvPr/>
        </p:nvCxnSpPr>
        <p:spPr>
          <a:xfrm flipH="1" rot="16200000">
            <a:off x="2736000" y="4941000"/>
            <a:ext cx="720000" cy="2305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8" name=""/>
          <p:cNvCxnSpPr>
            <a:stCxn id="180" idx="2"/>
            <a:endCxn id="186" idx="0"/>
          </p:cNvCxnSpPr>
          <p:nvPr/>
        </p:nvCxnSpPr>
        <p:spPr>
          <a:xfrm flipH="1" rot="16200000">
            <a:off x="3528000" y="5733000"/>
            <a:ext cx="720000" cy="721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9" name=""/>
          <p:cNvCxnSpPr>
            <a:stCxn id="181" idx="2"/>
            <a:endCxn id="186" idx="0"/>
          </p:cNvCxnSpPr>
          <p:nvPr/>
        </p:nvCxnSpPr>
        <p:spPr>
          <a:xfrm rot="5400000">
            <a:off x="4283640" y="5697360"/>
            <a:ext cx="720000" cy="79308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90" name=""/>
          <p:cNvCxnSpPr>
            <a:stCxn id="182" idx="2"/>
            <a:endCxn id="186" idx="0"/>
          </p:cNvCxnSpPr>
          <p:nvPr/>
        </p:nvCxnSpPr>
        <p:spPr>
          <a:xfrm rot="5400000">
            <a:off x="5039280" y="4941720"/>
            <a:ext cx="720000" cy="230436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191" name=""/>
          <p:cNvSpPr/>
          <p:nvPr/>
        </p:nvSpPr>
        <p:spPr>
          <a:xfrm>
            <a:off x="4033800" y="580536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Multiple Instruction, Multiple Data(M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(b + c) + (d - e) + 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, c, d, e, f, g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為陣列如果有三臺機器可分別執行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b + c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、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d - e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及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則三個運算可同時進行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 + 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2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c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87504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6548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 - 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 * 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728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652464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5" idx="2"/>
            <a:endCxn id="203" idx="0"/>
          </p:cNvCxnSpPr>
          <p:nvPr/>
        </p:nvCxnSpPr>
        <p:spPr>
          <a:xfrm flipH="1" rot="16200000">
            <a:off x="3060000" y="4833000"/>
            <a:ext cx="575280" cy="280872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5" name=""/>
          <p:cNvCxnSpPr>
            <a:stCxn id="199" idx="2"/>
            <a:endCxn id="203" idx="0"/>
          </p:cNvCxnSpPr>
          <p:nvPr/>
        </p:nvCxnSpPr>
        <p:spPr>
          <a:xfrm flipH="1" rot="16200000">
            <a:off x="4463280" y="6236280"/>
            <a:ext cx="575280" cy="216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6" name=""/>
          <p:cNvCxnSpPr>
            <a:stCxn id="200" idx="2"/>
            <a:endCxn id="203" idx="0"/>
          </p:cNvCxnSpPr>
          <p:nvPr/>
        </p:nvCxnSpPr>
        <p:spPr>
          <a:xfrm rot="5400000">
            <a:off x="5831640" y="4868640"/>
            <a:ext cx="575280" cy="273780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207" name=""/>
          <p:cNvSpPr/>
          <p:nvPr/>
        </p:nvSpPr>
        <p:spPr>
          <a:xfrm>
            <a:off x="4572000" y="6021360"/>
            <a:ext cx="360360" cy="30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2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c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80996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379080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944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e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72608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944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e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d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367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24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g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0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g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f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6:09:08Z</dcterms:created>
  <dc:creator>wsd</dc:creator>
  <dc:description/>
  <dc:language>en-US</dc:language>
  <cp:lastModifiedBy>wsd</cp:lastModifiedBy>
  <dcterms:modified xsi:type="dcterms:W3CDTF">2008-08-02T07:31:10Z</dcterms:modified>
  <cp:revision>31</cp:revision>
  <dc:subject/>
  <dc:title>投影片 1</dc:title>
</cp:coreProperties>
</file>