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8A44-8B75-40AB-A9B6-146239C7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C519-5B4B-48F1-B5F3-CFA8799B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F9B8-33D3-49C4-8CE3-70957748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0EEF-392E-4935-8B77-27ACB7C5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9ED8-8686-4B2B-B637-A0824F94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0410-97BA-43E9-86AC-AEFFB149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6EFD-72F7-49CE-BB9F-529C22AD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07AA-D627-4ED3-B9A7-C12EDFF0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5DE5-D2B7-400C-945D-9DBB71E2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7095-A1E8-414D-9E13-2316D348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7C2F-5676-44F7-A8C6-95741712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7A10-761E-4845-96D5-3B7B419F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BF17-3A82-4490-AB45-2EC44F6D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3B03-1F41-4C1B-B459-96ACA49C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FBF8-986D-4463-A2C9-7ACE130F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BE16-A269-46EC-AD75-068D8115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995F-9FF4-4F27-B600-6919DB44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A06C6-85D2-435A-A7EC-EB7B002D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9FCB5-2925-43A1-8E87-B18F5BAE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86582-E7FE-4952-80D5-C4A2DFF2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BA71B-DB1D-4636-A7C4-3B613452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D0470-1165-4255-9192-E40598F2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48B3-D6F9-4D66-AC65-5B01B0D7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3C226-847D-4EA1-A7EA-2C70F955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23E78-57AE-4795-91D0-AA6138A2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5373D-8A80-41BF-885F-95E1852E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0549A-4958-4228-9C32-870070C2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80FDB-BFA6-4271-A471-52EAFB68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0A179-5757-4CF0-A0A0-BE835C57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7895C-F670-4243-B826-1994AB68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C2C3-1E46-4AB1-B46B-D69F17E8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EDE0-7A76-4984-8EE2-DA2D997A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6C0E-4EBA-414C-BD63-9EF685B6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116E-C302-4B04-9C77-1260C3C0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C30E-9882-4303-AC27-B34AA1C2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18CC-659F-43F5-9B16-A9F218BE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C9A6-3A8C-4A63-84BA-EAF2AF0394AE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C997-80B7-49AA-871C-3D0757A58FAE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C648-5906-4C4A-8E61-BC4A159D92FF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ymxx@140.129.162.12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trac.nchc.org.tw/grid/wiki/mpich" TargetMode="Externa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-unix.mcs.anl.gov/mpi/mpich1/docs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trac.nchc.org.tw/grid/changeset/1" TargetMode="External"/><Relationship Id="rId2" Type="http://schemas.openxmlformats.org/officeDocument/2006/relationships/hyperlink" Target="https://trac.nchc.org.tw/grid/changeset/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平行運算簡介／實例操作</a:t>
            </a:r>
            <a:br>
              <a:rPr sz="3600"/>
            </a:b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企鵝也會的 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鄧偉華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wade@nchc.org.tw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6126120"/>
            <a:ext cx="45720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06560" y="4221000"/>
            <a:ext cx="1296720" cy="720720"/>
            <a:chOff x="1906560" y="4221000"/>
            <a:chExt cx="1296720" cy="720720"/>
          </a:xfrm>
        </p:grpSpPr>
        <p:sp>
          <p:nvSpPr>
            <p:cNvPr id="228" name=""/>
            <p:cNvSpPr/>
            <p:nvPr/>
          </p:nvSpPr>
          <p:spPr>
            <a:xfrm>
              <a:off x="190656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092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651640" y="4221000"/>
            <a:ext cx="1296720" cy="720720"/>
            <a:chOff x="5651640" y="4221000"/>
            <a:chExt cx="1296720" cy="720720"/>
          </a:xfrm>
        </p:grpSpPr>
        <p:sp>
          <p:nvSpPr>
            <p:cNvPr id="231" name=""/>
            <p:cNvSpPr/>
            <p:nvPr/>
          </p:nvSpPr>
          <p:spPr>
            <a:xfrm>
              <a:off x="565164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9600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33" name=""/>
          <p:cNvCxnSpPr>
            <a:stCxn id="228" idx="3"/>
            <a:endCxn id="231" idx="1"/>
          </p:cNvCxnSpPr>
          <p:nvPr/>
        </p:nvCxnSpPr>
        <p:spPr>
          <a:xfrm>
            <a:off x="3203640" y="4581000"/>
            <a:ext cx="244872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5506920" y="44388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0560" y="44370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間只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傳訊息給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2.58094E-006 L -0.2559 -0.00023 E">
                                      <p:cBhvr>
                                        <p:cTn id="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7" name=""/>
          <p:cNvCxnSpPr>
            <a:stCxn id="238" idx="3"/>
            <a:endCxn id="239" idx="1"/>
          </p:cNvCxnSpPr>
          <p:nvPr/>
        </p:nvCxnSpPr>
        <p:spPr>
          <a:xfrm>
            <a:off x="3203640" y="486900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40" name=""/>
          <p:cNvCxnSpPr>
            <a:stCxn id="238" idx="3"/>
            <a:endCxn id="241" idx="1"/>
          </p:cNvCxnSpPr>
          <p:nvPr/>
        </p:nvCxnSpPr>
        <p:spPr>
          <a:xfrm>
            <a:off x="3203640" y="486900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06560" y="4508640"/>
            <a:ext cx="1296720" cy="720720"/>
            <a:chOff x="1906560" y="4508640"/>
            <a:chExt cx="1296720" cy="720720"/>
          </a:xfrm>
        </p:grpSpPr>
        <p:sp>
          <p:nvSpPr>
            <p:cNvPr id="238" name=""/>
            <p:cNvSpPr/>
            <p:nvPr/>
          </p:nvSpPr>
          <p:spPr>
            <a:xfrm>
              <a:off x="1906560" y="450864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0920" y="465156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51640" y="2924280"/>
            <a:ext cx="1296720" cy="720720"/>
            <a:chOff x="5651640" y="2924280"/>
            <a:chExt cx="1296720" cy="720720"/>
          </a:xfrm>
        </p:grpSpPr>
        <p:sp>
          <p:nvSpPr>
            <p:cNvPr id="247" name=""/>
            <p:cNvSpPr/>
            <p:nvPr/>
          </p:nvSpPr>
          <p:spPr>
            <a:xfrm>
              <a:off x="5651640" y="29242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30672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49" name=""/>
          <p:cNvCxnSpPr>
            <a:stCxn id="238" idx="3"/>
            <a:endCxn id="247" idx="1"/>
          </p:cNvCxnSpPr>
          <p:nvPr/>
        </p:nvCxnSpPr>
        <p:spPr>
          <a:xfrm flipV="1">
            <a:off x="3203640" y="328392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50" name=""/>
          <p:cNvGrpSpPr/>
          <p:nvPr/>
        </p:nvGrpSpPr>
        <p:grpSpPr>
          <a:xfrm>
            <a:off x="5653080" y="4003560"/>
            <a:ext cx="1296720" cy="720720"/>
            <a:chOff x="5653080" y="4003560"/>
            <a:chExt cx="1296720" cy="720720"/>
          </a:xfrm>
        </p:grpSpPr>
        <p:sp>
          <p:nvSpPr>
            <p:cNvPr id="251" name=""/>
            <p:cNvSpPr/>
            <p:nvPr/>
          </p:nvSpPr>
          <p:spPr>
            <a:xfrm>
              <a:off x="5653080" y="4003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7440" y="4146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653080" y="5011560"/>
            <a:ext cx="1296720" cy="720720"/>
            <a:chOff x="5653080" y="5011560"/>
            <a:chExt cx="1296720" cy="720720"/>
          </a:xfrm>
        </p:grpSpPr>
        <p:sp>
          <p:nvSpPr>
            <p:cNvPr id="239" name=""/>
            <p:cNvSpPr/>
            <p:nvPr/>
          </p:nvSpPr>
          <p:spPr>
            <a:xfrm>
              <a:off x="5653080" y="5011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7440" y="5154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653080" y="6019920"/>
            <a:ext cx="1296720" cy="720720"/>
            <a:chOff x="5653080" y="6019920"/>
            <a:chExt cx="1296720" cy="720720"/>
          </a:xfrm>
        </p:grpSpPr>
        <p:sp>
          <p:nvSpPr>
            <p:cNvPr id="241" name=""/>
            <p:cNvSpPr/>
            <p:nvPr/>
          </p:nvSpPr>
          <p:spPr>
            <a:xfrm>
              <a:off x="5653080" y="60199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7440" y="61628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57" name=""/>
          <p:cNvCxnSpPr>
            <a:stCxn id="238" idx="3"/>
            <a:endCxn id="251" idx="1"/>
          </p:cNvCxnSpPr>
          <p:nvPr/>
        </p:nvCxnSpPr>
        <p:spPr>
          <a:xfrm flipV="1">
            <a:off x="3203640" y="4363200"/>
            <a:ext cx="2449800" cy="5058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3059280" y="472428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333 -0.00185 L 0.13333 -0.23148 L 0.26667 -0.23148 E">
                                      <p:cBhvr>
                                        <p:cTn id="27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13472 2.96296E-006 L 0.13472 -0.07407 L 0.26806 -0.07407 E">
                                      <p:cBhvr>
                                        <p:cTn id="30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472 2.96296E-006 L 0.13472 0.07222 L 0.26667 0.07222 E">
                                      <p:cBhvr>
                                        <p:cTn id="33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13333 1.11111E-006 L 0.13333 0.22037 L 0.26944 0.22037 E">
                                      <p:cBhvr>
                                        <p:cTn id="36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9" name=""/>
          <p:cNvCxnSpPr>
            <a:stCxn id="260" idx="3"/>
            <a:endCxn id="261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2" name=""/>
          <p:cNvCxnSpPr>
            <a:stCxn id="260" idx="3"/>
            <a:endCxn id="263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4" name=""/>
          <p:cNvCxnSpPr>
            <a:stCxn id="260" idx="3"/>
            <a:endCxn id="265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也可以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60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71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73" name=""/>
          <p:cNvCxnSpPr>
            <a:stCxn id="260" idx="3"/>
            <a:endCxn id="271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63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65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61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45" dur="3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54" dur="3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63" dur="3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72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傳訊息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7" idx="3"/>
            <a:endCxn id="288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89" name=""/>
          <p:cNvCxnSpPr>
            <a:stCxn id="287" idx="3"/>
            <a:endCxn id="290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91" name=""/>
          <p:cNvCxnSpPr>
            <a:stCxn id="287" idx="3"/>
            <a:endCxn id="292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93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87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96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98" name=""/>
          <p:cNvCxnSpPr>
            <a:stCxn id="287" idx="3"/>
            <a:endCxn id="296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90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92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88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83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87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91" dur="3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95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11" idx="3"/>
            <a:endCxn id="312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3" name=""/>
          <p:cNvCxnSpPr>
            <a:stCxn id="311" idx="3"/>
            <a:endCxn id="314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5" name=""/>
          <p:cNvCxnSpPr>
            <a:stCxn id="311" idx="3"/>
            <a:endCxn id="316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11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20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22" name=""/>
          <p:cNvCxnSpPr>
            <a:stCxn id="311" idx="3"/>
            <a:endCxn id="320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14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16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12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4653000"/>
            <a:ext cx="431640" cy="43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每個訊息做完運算後再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103" dur="3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107" dur="3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111" dur="3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115" dur="3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登入主機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 </a:t>
            </a:r>
            <a:r>
              <a:rPr b="0" lang="zh-TW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ymxx@140.129.162.1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輸入密碼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產生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public key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-keygen -t rs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一直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nter.....enter....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將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id_rsa.pub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更名為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authorized_keys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 .ssh/id_rsa.pub .ssh/authorized_key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.conf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cho "MPD_SECRETWORD=${user}$$" &gt; ~/.mpd.con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更改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.mpd.conf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權限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chmod 600 .mpd.conf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pd.hosts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nodes IP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填入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for ((i=2;i&lt;=7;i++)); do echo "192.168.129.$i" &gt;&gt; mpd.hosts; don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路徑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export PATH=$PATH:/opt/mpich2/bi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測試路徑是正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which 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正常顯示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/opt/mpich2/bin/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kdir .ds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cp mpd.hosts .dsh/machines.li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dsh -a hostna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啟動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boo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並開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測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否正常啟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ringtest 1000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釋放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如何執行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程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4 [ -f machine_file 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n how many mpds to sta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f hostsfi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列出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執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exec -n 12 ./mpi/a.ou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結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0000" y="974520"/>
            <a:ext cx="641664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如何使用載入／啟動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3720" y="2403000"/>
            <a:ext cx="598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stdio.h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mpi.h&gt;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main (int argc, char **arg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Init(&amp;argc, &amp;argv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size (MPI_COMM_WORLD,  &amp;numprocs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rank (MPI_COMM_WORLD,  &amp;myid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Finalize(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2708280"/>
            <a:ext cx="223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716280"/>
            <a:ext cx="266400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52000" y="3056760"/>
            <a:ext cx="306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啟動該程式在多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上的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5157720"/>
            <a:ext cx="266400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84840" y="5664960"/>
            <a:ext cx="141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結束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4076640"/>
            <a:ext cx="58341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49680" y="3577320"/>
            <a:ext cx="316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參與平行計算的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數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npro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42920" y="4365720"/>
            <a:ext cx="56167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48880" y="4801320"/>
            <a:ext cx="299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我是第幾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 (myid) from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999C-FAA9-43A4-BA5A-48DFB4F84640}" type="slidenum">
              <a:t>19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傳統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3673440"/>
            <a:ext cx="76932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印出，並且將所有的參與活動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總數也印出，顯示出自己的主機名稱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ain (int argc, char **argv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rank, size, len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char name[MPI_MAX_PROCESSOR_NAME]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總數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id / rank */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rank(MPI_COMM_WORLD,&amp;myid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host name 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Get_processor_name(name, &amp;len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printf("This is machine %d of %d name = %s\n“, myid, numprocs, name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S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_Send ((void *)&amp;data, icount, DATA_TYPE, idest, itag, MPI_COMM_WORLD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es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c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 void *buf, int count, MPI_Datatype datatype, int source, int tag, MPI_Comm comm, MPI_Status *status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ourc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資訊送給下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22560" y="4437000"/>
            <a:ext cx="1296720" cy="720720"/>
            <a:chOff x="2122560" y="4437000"/>
            <a:chExt cx="1296720" cy="720720"/>
          </a:xfrm>
        </p:grpSpPr>
        <p:sp>
          <p:nvSpPr>
            <p:cNvPr id="367" name=""/>
            <p:cNvSpPr/>
            <p:nvPr/>
          </p:nvSpPr>
          <p:spPr>
            <a:xfrm>
              <a:off x="212256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6692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867280" y="4437000"/>
            <a:ext cx="1296720" cy="720720"/>
            <a:chOff x="5867280" y="4437000"/>
            <a:chExt cx="1296720" cy="720720"/>
          </a:xfrm>
        </p:grpSpPr>
        <p:sp>
          <p:nvSpPr>
            <p:cNvPr id="370" name=""/>
            <p:cNvSpPr/>
            <p:nvPr/>
          </p:nvSpPr>
          <p:spPr>
            <a:xfrm>
              <a:off x="586728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1164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2" name=""/>
          <p:cNvCxnSpPr>
            <a:stCxn id="367" idx="3"/>
            <a:endCxn id="370" idx="1"/>
          </p:cNvCxnSpPr>
          <p:nvPr/>
        </p:nvCxnSpPr>
        <p:spPr>
          <a:xfrm>
            <a:off x="3419280" y="4797000"/>
            <a:ext cx="244836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73" name=""/>
          <p:cNvGrpSpPr/>
          <p:nvPr/>
        </p:nvGrpSpPr>
        <p:grpSpPr>
          <a:xfrm>
            <a:off x="3995640" y="5950080"/>
            <a:ext cx="1296720" cy="720720"/>
            <a:chOff x="3995640" y="5950080"/>
            <a:chExt cx="1296720" cy="720720"/>
          </a:xfrm>
        </p:grpSpPr>
        <p:sp>
          <p:nvSpPr>
            <p:cNvPr id="374" name=""/>
            <p:cNvSpPr/>
            <p:nvPr/>
          </p:nvSpPr>
          <p:spPr>
            <a:xfrm>
              <a:off x="3995640" y="595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40000" y="609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6" name=""/>
          <p:cNvCxnSpPr>
            <a:stCxn id="367" idx="2"/>
            <a:endCxn id="374" idx="1"/>
          </p:cNvCxnSpPr>
          <p:nvPr/>
        </p:nvCxnSpPr>
        <p:spPr>
          <a:xfrm flipH="1" rot="16200000">
            <a:off x="2807280" y="512172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77" name=""/>
          <p:cNvCxnSpPr>
            <a:stCxn id="370" idx="2"/>
            <a:endCxn id="374" idx="3"/>
          </p:cNvCxnSpPr>
          <p:nvPr/>
        </p:nvCxnSpPr>
        <p:spPr>
          <a:xfrm rot="5400000">
            <a:off x="5327640" y="512208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291636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964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609300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30139 0.00185 E">
                                      <p:cBhvr>
                                        <p:cTn id="198" dur="3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04028 0.05 L -0.04028 0.21667 L -0.17361 0.21667 E">
                                      <p:cBhvr>
                                        <p:cTn id="207" dur="3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24444 -0.00185 L -0.24444 -0.17037 E">
                                      <p:cBhvr>
                                        <p:cTn id="216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mpi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ain(int argc,char **argv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nt n, myrank, numproc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tatus stat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Init(&amp;argc,&amp;arg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rank(MPI_COMM_WORLD,&amp;myra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0 will send the first messag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end(&amp;n, 1, MPI_INT, 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1 to node n-2 will send message to the next nod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&gt;0 &amp;&amp; myrank&lt;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 MPI_Send(&amp;n, 1, MPI_INT, myrank+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the final node n-1 will not send any message but receive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==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傳送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由，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統一印出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85" idx="3"/>
            <a:endCxn id="386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7" name=""/>
          <p:cNvCxnSpPr>
            <a:stCxn id="385" idx="3"/>
            <a:endCxn id="388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9" name=""/>
          <p:cNvCxnSpPr>
            <a:stCxn id="385" idx="3"/>
            <a:endCxn id="390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91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85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94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96" name=""/>
          <p:cNvCxnSpPr>
            <a:stCxn id="385" idx="3"/>
            <a:endCxn id="394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88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90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86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228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237" dur="3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246" dur="3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255" dur="3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4870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ain(int argc, char **argv)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Node 0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== 0) 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receive messages from other nodes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…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other Nodes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!= 0) {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send node's rank to Node 0 *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Send(message, 20, MPI_CHAR, 0, 99, MPI_COMM_WORLD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續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程序切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5640" y="4002120"/>
            <a:ext cx="79930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再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讓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接受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訊息，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標上不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 (0, 1, 2...)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後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51280" y="4581360"/>
            <a:ext cx="1296720" cy="720720"/>
            <a:chOff x="3851280" y="4581360"/>
            <a:chExt cx="1296720" cy="720720"/>
          </a:xfrm>
        </p:grpSpPr>
        <p:sp>
          <p:nvSpPr>
            <p:cNvPr id="414" name=""/>
            <p:cNvSpPr/>
            <p:nvPr/>
          </p:nvSpPr>
          <p:spPr>
            <a:xfrm>
              <a:off x="385128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564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946920" y="4581360"/>
            <a:ext cx="1296720" cy="720720"/>
            <a:chOff x="6946920" y="4581360"/>
            <a:chExt cx="1296720" cy="720720"/>
          </a:xfrm>
        </p:grpSpPr>
        <p:sp>
          <p:nvSpPr>
            <p:cNvPr id="417" name=""/>
            <p:cNvSpPr/>
            <p:nvPr/>
          </p:nvSpPr>
          <p:spPr>
            <a:xfrm>
              <a:off x="694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19" name=""/>
          <p:cNvCxnSpPr>
            <a:stCxn id="414" idx="3"/>
            <a:endCxn id="417" idx="1"/>
          </p:cNvCxnSpPr>
          <p:nvPr/>
        </p:nvCxnSpPr>
        <p:spPr>
          <a:xfrm>
            <a:off x="5148360" y="4941360"/>
            <a:ext cx="179928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420" name=""/>
          <p:cNvGrpSpPr/>
          <p:nvPr/>
        </p:nvGrpSpPr>
        <p:grpSpPr>
          <a:xfrm>
            <a:off x="826920" y="4581360"/>
            <a:ext cx="1296720" cy="720720"/>
            <a:chOff x="826920" y="4581360"/>
            <a:chExt cx="1296720" cy="720720"/>
          </a:xfrm>
        </p:grpSpPr>
        <p:sp>
          <p:nvSpPr>
            <p:cNvPr id="421" name=""/>
            <p:cNvSpPr/>
            <p:nvPr/>
          </p:nvSpPr>
          <p:spPr>
            <a:xfrm>
              <a:off x="82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7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23" name=""/>
          <p:cNvCxnSpPr>
            <a:stCxn id="414" idx="1"/>
            <a:endCxn id="421" idx="3"/>
          </p:cNvCxnSpPr>
          <p:nvPr/>
        </p:nvCxnSpPr>
        <p:spPr>
          <a:xfrm rot="10800000">
            <a:off x="2123280" y="4941000"/>
            <a:ext cx="172800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680400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7964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-0.19305 0.00023 E">
                                      <p:cBhvr>
                                        <p:cTn id="26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19027 0.00023 E">
                                      <p:cBhvr>
                                        <p:cTn id="276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SOURC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訊息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TAG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du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duce ( void *sendbuf, void *recvbuf, int count, MPI_Datatype datatype, MPI_Op op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endbuf   address of send buffer (choic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     number of elements in send buffer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data type of elements of send buffer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op            reduce operation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ank of root process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communicator (handle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計算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1 + 2 + 3 + .... +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mpi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rank, size, i; int myid, numprocs; int myTotal = 0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Total = 0; MPI_Init(&amp;argc, &amp;argv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rank(MPI_COMM_WORLD, &amp;myi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for(i = 1; i &lt;= 100; i++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(i % numprocs) == myid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yTotal += i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Reduce(&amp;myTotal, &amp;Total, 1, MPI_INT, MPI_SUM, 0,MPI_COMM_WORL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myid==0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printf("Total = %d\n", Total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838080" y="2421000"/>
            <a:ext cx="53182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計算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從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加至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總合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n) = f(n - 1) + f(n -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0) = 1, f(1) =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1, 1, 2, 3, 5, 8, .....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ca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Bcast ( void *buffer, int count, MPI_Datatype datatype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fer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buffe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oo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 (rank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多少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(MPI_Comm comm 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需要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為了讓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只有當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執行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時，所以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才再繼續往下執行下面的程式碼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要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簡省時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解決大型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即時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更多來自網路上的資源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大量「便宜」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C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取代超級電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記憶體不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無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負責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則有可能出現以下情形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順利比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先執行到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cast A=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送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還未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  <a:ea typeface="標楷體"/>
              </a:rPr>
              <a:t>MPI_Bcas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=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print A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則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中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結果就不會同步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" autoRev="1" fill="hold"/>
                                        <p:tgtEl>
                                          <p:spTgt spid="4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250" autoRev="1" fill="hold"/>
                                        <p:tgtEl>
                                          <p:spTgt spid="4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4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250" autoRev="1" fill="hold"/>
                                        <p:tgtEl>
                                          <p:spTgt spid="4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250" autoRev="1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25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3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有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此時不管那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皆會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等待，直至全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執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時才會繼續往下執行程式碼，如此一來才可確保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使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都改為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9856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544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1200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250" autoRev="1" fill="hold"/>
                                        <p:tgtEl>
                                          <p:spTgt spid="5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5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250" autoRev="1" fill="hold"/>
                                        <p:tgtEl>
                                          <p:spTgt spid="5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000"/>
                            </p:stCondLst>
                            <p:childTnLst>
                              <p:par>
                                <p:cTn id="5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5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250" autoRev="1" fill="hold"/>
                                        <p:tgtEl>
                                          <p:spTgt spid="5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250" autoRev="1" fill="hold"/>
                                        <p:tgtEl>
                                          <p:spTgt spid="5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250" autoRev="1" fill="hold"/>
                                        <p:tgtEl>
                                          <p:spTgt spid="5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3500"/>
                            </p:stCondLst>
                            <p:childTnLst>
                              <p:par>
                                <p:cTn id="6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5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250" autoRev="1" fill="hold"/>
                                        <p:tgtEl>
                                          <p:spTgt spid="5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250" autoRev="1" fill="hold"/>
                                        <p:tgtEl>
                                          <p:spTgt spid="5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i = 0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rank(MPI_COMM_WORLD, &amp;myi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這邊先印出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初始狀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要求使用者輸入一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f (myid == 0) {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Please input a INT number &gt;&gt;"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scanf("%d", &amp;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將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值設為使用者所輸入的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cast(&amp;i, 1, MPI_INT, 0, MPI_COMM_WORL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所有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在此同步，以確認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已將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送給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*/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arrier(MPI_COMM_WORLD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38080" y="4797360"/>
            <a:ext cx="76932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我們可以發現到第二行很明顯的不同，這就是前面介紹，不一定誰會先執行到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RIN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指令，所以我在第四行才能輸入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然後底下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被設為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rcRect l="0" t="0" r="20818" b="0"/>
          <a:stretch/>
        </p:blipFill>
        <p:spPr>
          <a:xfrm>
            <a:off x="755640" y="2292480"/>
            <a:ext cx="6840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設計注意事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CH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屬於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SIM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架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指令及資料量切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優：有助於平行運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Arial"/>
              </a:rPr>
              <a:t>缺：增加傳輸次數及傳輸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websit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rac.nchc.org.tw/grid/wiki/mpi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ail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wade@nchc.org.t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參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-unix.mcs.anl.gov/mpi/mpich1/docs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-unix.mcs.anl.gov/mpi/www/www3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.mpi-forum.org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計算種類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Flynn's taxonom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處理器架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3573360"/>
          <a:ext cx="7693200" cy="2946600"/>
        </p:xfrm>
        <a:graphic>
          <a:graphicData uri="http://schemas.openxmlformats.org/drawingml/2006/table">
            <a:tbl>
              <a:tblPr/>
              <a:tblGrid>
                <a:gridCol w="2365560"/>
                <a:gridCol w="2592360"/>
                <a:gridCol w="273528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ngle Instruction, Single Data (S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非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1 + 1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51664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 1 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508644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400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S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b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是二組陣列，則同一時間就可以計算完成。而不需要算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0]  = 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[0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1]  =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[1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…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n]  = b[n]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516640"/>
            <a:ext cx="748980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b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6692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0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47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………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4560" y="3933720"/>
            <a:ext cx="6481800" cy="790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M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(2 + 3) + (2 - 3) + (2 * 3) + (2 / 3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+ 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-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*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229360"/>
            <a:ext cx="136872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/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6453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6" idx="2"/>
            <a:endCxn id="186" idx="0"/>
          </p:cNvCxnSpPr>
          <p:nvPr/>
        </p:nvCxnSpPr>
        <p:spPr>
          <a:xfrm flipH="1" rot="16200000">
            <a:off x="2736000" y="4941000"/>
            <a:ext cx="720000" cy="2305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8" name=""/>
          <p:cNvCxnSpPr>
            <a:stCxn id="180" idx="2"/>
            <a:endCxn id="186" idx="0"/>
          </p:cNvCxnSpPr>
          <p:nvPr/>
        </p:nvCxnSpPr>
        <p:spPr>
          <a:xfrm flipH="1" rot="16200000">
            <a:off x="3528000" y="5733000"/>
            <a:ext cx="720000" cy="721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9" name=""/>
          <p:cNvCxnSpPr>
            <a:stCxn id="181" idx="2"/>
            <a:endCxn id="186" idx="0"/>
          </p:cNvCxnSpPr>
          <p:nvPr/>
        </p:nvCxnSpPr>
        <p:spPr>
          <a:xfrm rot="5400000">
            <a:off x="4283640" y="5697360"/>
            <a:ext cx="720000" cy="79308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90" name=""/>
          <p:cNvCxnSpPr>
            <a:stCxn id="182" idx="2"/>
            <a:endCxn id="186" idx="0"/>
          </p:cNvCxnSpPr>
          <p:nvPr/>
        </p:nvCxnSpPr>
        <p:spPr>
          <a:xfrm rot="5400000">
            <a:off x="5039280" y="4941720"/>
            <a:ext cx="720000" cy="230436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191" name=""/>
          <p:cNvSpPr/>
          <p:nvPr/>
        </p:nvSpPr>
        <p:spPr>
          <a:xfrm>
            <a:off x="4033800" y="5805360"/>
            <a:ext cx="43200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Multiple Instruction, Multiple Data(M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(b + c) + (d - e) + 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, c, d, e, f, g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為陣列如果有三臺機器可分別執行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b + c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、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d - e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及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則三個運算可同時進行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 + 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2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c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387504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6548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 - 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 * 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728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6524640"/>
            <a:ext cx="136836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95" idx="2"/>
            <a:endCxn id="203" idx="0"/>
          </p:cNvCxnSpPr>
          <p:nvPr/>
        </p:nvCxnSpPr>
        <p:spPr>
          <a:xfrm flipH="1" rot="16200000">
            <a:off x="3060000" y="4833000"/>
            <a:ext cx="575280" cy="280872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5" name=""/>
          <p:cNvCxnSpPr>
            <a:stCxn id="199" idx="2"/>
            <a:endCxn id="203" idx="0"/>
          </p:cNvCxnSpPr>
          <p:nvPr/>
        </p:nvCxnSpPr>
        <p:spPr>
          <a:xfrm flipH="1" rot="16200000">
            <a:off x="4463280" y="6236280"/>
            <a:ext cx="575280" cy="216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6" name=""/>
          <p:cNvCxnSpPr>
            <a:stCxn id="200" idx="2"/>
            <a:endCxn id="203" idx="0"/>
          </p:cNvCxnSpPr>
          <p:nvPr/>
        </p:nvCxnSpPr>
        <p:spPr>
          <a:xfrm rot="5400000">
            <a:off x="5831640" y="4868640"/>
            <a:ext cx="575280" cy="273780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207" name=""/>
          <p:cNvSpPr/>
          <p:nvPr/>
        </p:nvSpPr>
        <p:spPr>
          <a:xfrm>
            <a:off x="4572000" y="6021360"/>
            <a:ext cx="360360" cy="300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2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c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480996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379080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8944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e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872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472608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944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e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872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d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4367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30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24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g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0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g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f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6:09:08Z</dcterms:created>
  <dc:creator>wsd</dc:creator>
  <dc:description/>
  <dc:language>en-US</dc:language>
  <cp:lastModifiedBy>wsd</cp:lastModifiedBy>
  <dcterms:modified xsi:type="dcterms:W3CDTF">2008-08-02T07:31:10Z</dcterms:modified>
  <cp:revision>31</cp:revision>
  <dc:subject/>
  <dc:title>投影片 1</dc:title>
</cp:coreProperties>
</file>