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2F50-2D7A-4BE1-A0A9-B20A68043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7A88-C64F-4F64-8B56-E19F4A34B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3B51-137A-45B6-82AA-5E82E3A34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80EE-F462-4F83-AF21-0AC9190B8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865EC-A097-44F4-8926-B2A809781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EF179-E4BF-4A51-988F-E9CD3845E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749A7-BD7F-4542-B1C0-FD776E955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07B5B-61FC-4DB5-823F-0F4751AB3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8B3BC-0978-44D9-83F5-97EBE459A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B2500-C374-4950-95E4-B3DAB465F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617C8-828E-4719-99CF-842983638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82E8-E089-4B6F-8410-16949A70B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3EE84-4B71-4B8B-924F-5D5255B13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DD0DE-C5AE-4DC6-BAB6-835E1ADB9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F2656-C7EA-4A60-A1B4-6D363B5E9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9EE88-5946-4985-A542-592F0C8A8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49ED3-ABBF-4979-AD10-4AF0196BA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E1A7F-0253-4293-B6AE-0251A29F3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BDB74-0FBB-4D53-84CF-EF562AD94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437C5-91AE-4637-94B7-2589F617B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97386-C0BD-4B64-8468-BE8974731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56BBF-2A78-4198-A2B9-93DF6B49C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FC31-1E44-4C98-AA2C-B03282DDB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5B8A7-819F-4779-A02A-46C929576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C6EDF-ACF4-48A1-8B0C-19A682C7E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2C185-1C71-40AD-88C8-AFB43A903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C1AFA-3B22-48BF-A434-0689E3863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C5012-2C3E-4BF1-8FB5-1556A6567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363A3-EF72-4AA9-A981-CF8C5A293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A6D54-8A72-4C15-B773-38C3DB160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885D-B42D-4A2C-BA54-C13981C59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0BE2-1762-44D8-A0C9-3630CE2A1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9CA1-10FE-4036-87B2-DD2C53ACB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0291-27B6-4EE2-AF69-3D3D52BF4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7D3D-9E4B-46A2-B1A1-31CE5A532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BC10-230C-4275-A144-C32F03A04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7F96A-F82A-4736-AD83-1FB200754C56}" type="slidenum">
              <a:rPr b="1" lang="zh-TW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C2AB1-ED41-4DA3-A03D-D9713D51811A}" type="slidenum">
              <a:rPr b="1" lang="zh-TW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01020-55D7-4C0E-9110-70ED406AF9D6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ymxx@140.129.162.12" TargetMode="Externa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trac.nchc.org.tw/grid/wiki/mpich" TargetMode="External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://www-unix.mcs.anl.gov/mpi/mpich1/docs.html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trac.nchc.org.tw/grid/changeset/1" TargetMode="External"/><Relationship Id="rId2" Type="http://schemas.openxmlformats.org/officeDocument/2006/relationships/hyperlink" Target="https://trac.nchc.org.tw/grid/changeset/1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平行運算簡介／實例操作</a:t>
            </a:r>
            <a:br>
              <a:rPr sz="3600"/>
            </a:b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企鵝也會的 </a:t>
            </a: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MPICH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6666"/>
                </a:solidFill>
                <a:latin typeface="Arial"/>
              </a:rPr>
              <a:t>鄧偉華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6666"/>
                </a:solidFill>
                <a:latin typeface="Arial"/>
              </a:rPr>
              <a:t>wade@nchc.org.tw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572000" y="6126120"/>
            <a:ext cx="457200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int to point communication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1906560" y="4221000"/>
            <a:ext cx="1296720" cy="720720"/>
            <a:chOff x="1906560" y="4221000"/>
            <a:chExt cx="1296720" cy="720720"/>
          </a:xfrm>
        </p:grpSpPr>
        <p:sp>
          <p:nvSpPr>
            <p:cNvPr id="228" name=""/>
            <p:cNvSpPr/>
            <p:nvPr/>
          </p:nvSpPr>
          <p:spPr>
            <a:xfrm>
              <a:off x="1906560" y="422100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050920" y="436392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5651640" y="4221000"/>
            <a:ext cx="1296720" cy="720720"/>
            <a:chOff x="5651640" y="4221000"/>
            <a:chExt cx="1296720" cy="720720"/>
          </a:xfrm>
        </p:grpSpPr>
        <p:sp>
          <p:nvSpPr>
            <p:cNvPr id="231" name=""/>
            <p:cNvSpPr/>
            <p:nvPr/>
          </p:nvSpPr>
          <p:spPr>
            <a:xfrm>
              <a:off x="5651640" y="422100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796000" y="436392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233" name=""/>
          <p:cNvCxnSpPr>
            <a:stCxn id="228" idx="3"/>
            <a:endCxn id="231" idx="1"/>
          </p:cNvCxnSpPr>
          <p:nvPr/>
        </p:nvCxnSpPr>
        <p:spPr>
          <a:xfrm>
            <a:off x="3203640" y="4581000"/>
            <a:ext cx="2448720" cy="1080"/>
          </a:xfrm>
          <a:prstGeom prst="bentConnector2">
            <a:avLst/>
          </a:prstGeom>
          <a:ln w="38160">
            <a:solidFill>
              <a:srgbClr val="003366"/>
            </a:solidFill>
            <a:miter/>
          </a:ln>
        </p:spPr>
      </p:cxnSp>
      <p:sp>
        <p:nvSpPr>
          <p:cNvPr id="234" name=""/>
          <p:cNvSpPr/>
          <p:nvPr/>
        </p:nvSpPr>
        <p:spPr>
          <a:xfrm>
            <a:off x="5506920" y="443880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130560" y="443700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同時間只有一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傳訊息給另一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99 2.58094E-006 L -0.2559 -0.00023 E">
                                      <p:cBhvr>
                                        <p:cTn id="9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8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37" name=""/>
          <p:cNvCxnSpPr>
            <a:stCxn id="238" idx="3"/>
            <a:endCxn id="239" idx="1"/>
          </p:cNvCxnSpPr>
          <p:nvPr/>
        </p:nvCxnSpPr>
        <p:spPr>
          <a:xfrm>
            <a:off x="3203640" y="4869000"/>
            <a:ext cx="2449800" cy="504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40" name=""/>
          <p:cNvCxnSpPr>
            <a:stCxn id="238" idx="3"/>
            <a:endCxn id="241" idx="1"/>
          </p:cNvCxnSpPr>
          <p:nvPr/>
        </p:nvCxnSpPr>
        <p:spPr>
          <a:xfrm>
            <a:off x="3203640" y="4869000"/>
            <a:ext cx="2449800" cy="1512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可以有一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丟訊息給多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int to point communication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1906560" y="4508640"/>
            <a:ext cx="1296720" cy="720720"/>
            <a:chOff x="1906560" y="4508640"/>
            <a:chExt cx="1296720" cy="720720"/>
          </a:xfrm>
        </p:grpSpPr>
        <p:sp>
          <p:nvSpPr>
            <p:cNvPr id="238" name=""/>
            <p:cNvSpPr/>
            <p:nvPr/>
          </p:nvSpPr>
          <p:spPr>
            <a:xfrm>
              <a:off x="1906560" y="450864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050920" y="465156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5651640" y="2924280"/>
            <a:ext cx="1296720" cy="720720"/>
            <a:chOff x="5651640" y="2924280"/>
            <a:chExt cx="1296720" cy="720720"/>
          </a:xfrm>
        </p:grpSpPr>
        <p:sp>
          <p:nvSpPr>
            <p:cNvPr id="247" name=""/>
            <p:cNvSpPr/>
            <p:nvPr/>
          </p:nvSpPr>
          <p:spPr>
            <a:xfrm>
              <a:off x="5651640" y="292428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796000" y="306720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249" name=""/>
          <p:cNvCxnSpPr>
            <a:stCxn id="238" idx="3"/>
            <a:endCxn id="247" idx="1"/>
          </p:cNvCxnSpPr>
          <p:nvPr/>
        </p:nvCxnSpPr>
        <p:spPr>
          <a:xfrm flipV="1">
            <a:off x="3203640" y="3283920"/>
            <a:ext cx="2448720" cy="1585080"/>
          </a:xfrm>
          <a:prstGeom prst="bentConnector3">
            <a:avLst>
              <a:gd name="adj1" fmla="val 49933"/>
            </a:avLst>
          </a:prstGeom>
          <a:ln w="38160">
            <a:solidFill>
              <a:srgbClr val="003366"/>
            </a:solidFill>
            <a:miter/>
          </a:ln>
        </p:spPr>
      </p:cxnSp>
      <p:grpSp>
        <p:nvGrpSpPr>
          <p:cNvPr id="250" name=""/>
          <p:cNvGrpSpPr/>
          <p:nvPr/>
        </p:nvGrpSpPr>
        <p:grpSpPr>
          <a:xfrm>
            <a:off x="5653080" y="4003560"/>
            <a:ext cx="1296720" cy="720720"/>
            <a:chOff x="5653080" y="4003560"/>
            <a:chExt cx="1296720" cy="720720"/>
          </a:xfrm>
        </p:grpSpPr>
        <p:sp>
          <p:nvSpPr>
            <p:cNvPr id="251" name=""/>
            <p:cNvSpPr/>
            <p:nvPr/>
          </p:nvSpPr>
          <p:spPr>
            <a:xfrm>
              <a:off x="5653080" y="40035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797440" y="41464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5653080" y="5011560"/>
            <a:ext cx="1296720" cy="720720"/>
            <a:chOff x="5653080" y="5011560"/>
            <a:chExt cx="1296720" cy="720720"/>
          </a:xfrm>
        </p:grpSpPr>
        <p:sp>
          <p:nvSpPr>
            <p:cNvPr id="239" name=""/>
            <p:cNvSpPr/>
            <p:nvPr/>
          </p:nvSpPr>
          <p:spPr>
            <a:xfrm>
              <a:off x="5653080" y="50115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797440" y="51544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5653080" y="6019920"/>
            <a:ext cx="1296720" cy="720720"/>
            <a:chOff x="5653080" y="6019920"/>
            <a:chExt cx="1296720" cy="720720"/>
          </a:xfrm>
        </p:grpSpPr>
        <p:sp>
          <p:nvSpPr>
            <p:cNvPr id="241" name=""/>
            <p:cNvSpPr/>
            <p:nvPr/>
          </p:nvSpPr>
          <p:spPr>
            <a:xfrm>
              <a:off x="5653080" y="601992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797440" y="616284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257" name=""/>
          <p:cNvCxnSpPr>
            <a:stCxn id="238" idx="3"/>
            <a:endCxn id="251" idx="1"/>
          </p:cNvCxnSpPr>
          <p:nvPr/>
        </p:nvCxnSpPr>
        <p:spPr>
          <a:xfrm flipV="1">
            <a:off x="3203640" y="4363200"/>
            <a:ext cx="2449800" cy="5058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258" name=""/>
          <p:cNvSpPr/>
          <p:nvPr/>
        </p:nvSpPr>
        <p:spPr>
          <a:xfrm>
            <a:off x="3059280" y="472428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96296E-006 L 0.13333 -0.00185 L 0.13333 -0.23148 L 0.26667 -0.23148 E">
                                      <p:cBhvr>
                                        <p:cTn id="27" dur="3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2.96296E-006 L 0.13472 2.96296E-006 L 0.13472 -0.07407 L 0.26806 -0.07407 E">
                                      <p:cBhvr>
                                        <p:cTn id="30" dur="3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96296E-006 L 0.13472 2.96296E-006 L 0.13472 0.07222 L 0.26667 0.07222 E">
                                      <p:cBhvr>
                                        <p:cTn id="33" dur="3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9000"/>
                            </p:stCondLst>
                            <p:childTnLst>
                              <p:par>
                                <p:cTn id="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1.11111E-006 L 0.13333 1.11111E-006 L 0.13333 0.22037 L 0.26944 0.22037 E">
                                      <p:cBhvr>
                                        <p:cTn id="36" dur="3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59" name=""/>
          <p:cNvCxnSpPr>
            <a:stCxn id="260" idx="3"/>
            <a:endCxn id="261" idx="1"/>
          </p:cNvCxnSpPr>
          <p:nvPr/>
        </p:nvCxnSpPr>
        <p:spPr>
          <a:xfrm>
            <a:off x="3203640" y="4870440"/>
            <a:ext cx="2449800" cy="1512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62" name=""/>
          <p:cNvCxnSpPr>
            <a:stCxn id="260" idx="3"/>
            <a:endCxn id="263" idx="1"/>
          </p:cNvCxnSpPr>
          <p:nvPr/>
        </p:nvCxnSpPr>
        <p:spPr>
          <a:xfrm flipV="1">
            <a:off x="3203640" y="4365360"/>
            <a:ext cx="2449800" cy="50544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64" name=""/>
          <p:cNvCxnSpPr>
            <a:stCxn id="260" idx="3"/>
            <a:endCxn id="265" idx="1"/>
          </p:cNvCxnSpPr>
          <p:nvPr/>
        </p:nvCxnSpPr>
        <p:spPr>
          <a:xfrm>
            <a:off x="3203640" y="4870440"/>
            <a:ext cx="2449800" cy="504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也可以多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丟訊息給一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int to point communication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1906560" y="4510080"/>
            <a:ext cx="1296720" cy="720720"/>
            <a:chOff x="1906560" y="4510080"/>
            <a:chExt cx="1296720" cy="720720"/>
          </a:xfrm>
        </p:grpSpPr>
        <p:sp>
          <p:nvSpPr>
            <p:cNvPr id="260" name=""/>
            <p:cNvSpPr/>
            <p:nvPr/>
          </p:nvSpPr>
          <p:spPr>
            <a:xfrm>
              <a:off x="1906560" y="451008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050920" y="465300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5651640" y="2925720"/>
            <a:ext cx="1296720" cy="720720"/>
            <a:chOff x="5651640" y="2925720"/>
            <a:chExt cx="1296720" cy="720720"/>
          </a:xfrm>
        </p:grpSpPr>
        <p:sp>
          <p:nvSpPr>
            <p:cNvPr id="271" name=""/>
            <p:cNvSpPr/>
            <p:nvPr/>
          </p:nvSpPr>
          <p:spPr>
            <a:xfrm>
              <a:off x="5651640" y="292572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796000" y="306864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273" name=""/>
          <p:cNvCxnSpPr>
            <a:stCxn id="260" idx="3"/>
            <a:endCxn id="271" idx="1"/>
          </p:cNvCxnSpPr>
          <p:nvPr/>
        </p:nvCxnSpPr>
        <p:spPr>
          <a:xfrm flipV="1">
            <a:off x="3203640" y="3285360"/>
            <a:ext cx="2448720" cy="1585080"/>
          </a:xfrm>
          <a:prstGeom prst="bentConnector3">
            <a:avLst>
              <a:gd name="adj1" fmla="val 49933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274" name=""/>
          <p:cNvSpPr/>
          <p:nvPr/>
        </p:nvSpPr>
        <p:spPr>
          <a:xfrm>
            <a:off x="5506920" y="314172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5653080" y="4005360"/>
            <a:ext cx="1296720" cy="720720"/>
            <a:chOff x="5653080" y="4005360"/>
            <a:chExt cx="1296720" cy="720720"/>
          </a:xfrm>
        </p:grpSpPr>
        <p:sp>
          <p:nvSpPr>
            <p:cNvPr id="263" name=""/>
            <p:cNvSpPr/>
            <p:nvPr/>
          </p:nvSpPr>
          <p:spPr>
            <a:xfrm>
              <a:off x="5653080" y="4005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797440" y="4148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5508720" y="4221000"/>
            <a:ext cx="215640" cy="28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653080" y="5013360"/>
            <a:ext cx="1296720" cy="720720"/>
            <a:chOff x="5653080" y="5013360"/>
            <a:chExt cx="1296720" cy="720720"/>
          </a:xfrm>
        </p:grpSpPr>
        <p:sp>
          <p:nvSpPr>
            <p:cNvPr id="265" name=""/>
            <p:cNvSpPr/>
            <p:nvPr/>
          </p:nvSpPr>
          <p:spPr>
            <a:xfrm>
              <a:off x="5653080" y="5013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797440" y="5156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5508720" y="5229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5653080" y="6021360"/>
            <a:ext cx="1296720" cy="720720"/>
            <a:chOff x="5653080" y="6021360"/>
            <a:chExt cx="1296720" cy="720720"/>
          </a:xfrm>
        </p:grpSpPr>
        <p:sp>
          <p:nvSpPr>
            <p:cNvPr id="261" name=""/>
            <p:cNvSpPr/>
            <p:nvPr/>
          </p:nvSpPr>
          <p:spPr>
            <a:xfrm>
              <a:off x="5653080" y="602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797440" y="616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5508720" y="6237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4.44444E-006 L -0.13472 -4.44444E-006 L -0.13472 0.22963 L -0.26805 0.22963 E">
                                      <p:cBhvr>
                                        <p:cTn id="45" dur="3000" fill="hold"/>
                                        <p:tgtEl>
                                          <p:spTgt spid="2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5.55556E-006 L -0.13334 5.55556E-006 L -0.13334 0.07223 L -0.26806 0.07223 E">
                                      <p:cBhvr>
                                        <p:cTn id="54" dur="3000" fill="hold"/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6000"/>
                            </p:stCondLst>
                            <p:childTnLst>
                              <p:par>
                                <p:cTn id="5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60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6000"/>
                            </p:stCondLst>
                            <p:childTnLst>
                              <p:par>
                                <p:cTn id="6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85185E-006 L -0.13473 1.85185E-006 L -0.13612 -0.07222 L -0.27084 -0.07407 E">
                                      <p:cBhvr>
                                        <p:cTn id="63" dur="30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9000"/>
                            </p:stCondLst>
                            <p:childTnLst>
                              <p:par>
                                <p:cTn id="6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90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9000"/>
                            </p:stCondLst>
                            <p:childTnLst>
                              <p:par>
                                <p:cTn id="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4.44444E-006 L -0.13195 4.44444E-006 L -0.13334 -0.22222 L -0.26667 -0.22222 E">
                                      <p:cBhvr>
                                        <p:cTn id="72" dur="3000" fill="hold"/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2000"/>
                            </p:stCondLst>
                            <p:childTnLst>
                              <p:par>
                                <p:cTn id="7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每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同時傳訊息給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llective communic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cxnSp>
        <p:nvCxnSpPr>
          <p:cNvPr id="286" name=""/>
          <p:cNvCxnSpPr>
            <a:stCxn id="287" idx="3"/>
            <a:endCxn id="288" idx="1"/>
          </p:cNvCxnSpPr>
          <p:nvPr/>
        </p:nvCxnSpPr>
        <p:spPr>
          <a:xfrm>
            <a:off x="3203640" y="4870440"/>
            <a:ext cx="2449800" cy="1512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89" name=""/>
          <p:cNvCxnSpPr>
            <a:stCxn id="287" idx="3"/>
            <a:endCxn id="290" idx="1"/>
          </p:cNvCxnSpPr>
          <p:nvPr/>
        </p:nvCxnSpPr>
        <p:spPr>
          <a:xfrm flipV="1">
            <a:off x="3203640" y="4365360"/>
            <a:ext cx="2449800" cy="50544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91" name=""/>
          <p:cNvCxnSpPr>
            <a:stCxn id="287" idx="3"/>
            <a:endCxn id="292" idx="1"/>
          </p:cNvCxnSpPr>
          <p:nvPr/>
        </p:nvCxnSpPr>
        <p:spPr>
          <a:xfrm>
            <a:off x="3203640" y="4870440"/>
            <a:ext cx="2449800" cy="504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grpSp>
        <p:nvGrpSpPr>
          <p:cNvPr id="293" name=""/>
          <p:cNvGrpSpPr/>
          <p:nvPr/>
        </p:nvGrpSpPr>
        <p:grpSpPr>
          <a:xfrm>
            <a:off x="1906560" y="4510080"/>
            <a:ext cx="1296720" cy="720720"/>
            <a:chOff x="1906560" y="4510080"/>
            <a:chExt cx="1296720" cy="720720"/>
          </a:xfrm>
        </p:grpSpPr>
        <p:sp>
          <p:nvSpPr>
            <p:cNvPr id="287" name=""/>
            <p:cNvSpPr/>
            <p:nvPr/>
          </p:nvSpPr>
          <p:spPr>
            <a:xfrm>
              <a:off x="1906560" y="451008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050920" y="465300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5651640" y="2925720"/>
            <a:ext cx="1296720" cy="720720"/>
            <a:chOff x="5651640" y="2925720"/>
            <a:chExt cx="1296720" cy="720720"/>
          </a:xfrm>
        </p:grpSpPr>
        <p:sp>
          <p:nvSpPr>
            <p:cNvPr id="296" name=""/>
            <p:cNvSpPr/>
            <p:nvPr/>
          </p:nvSpPr>
          <p:spPr>
            <a:xfrm>
              <a:off x="5651640" y="292572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796000" y="306864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298" name=""/>
          <p:cNvCxnSpPr>
            <a:stCxn id="287" idx="3"/>
            <a:endCxn id="296" idx="1"/>
          </p:cNvCxnSpPr>
          <p:nvPr/>
        </p:nvCxnSpPr>
        <p:spPr>
          <a:xfrm flipV="1">
            <a:off x="3203640" y="3285360"/>
            <a:ext cx="2448720" cy="1585080"/>
          </a:xfrm>
          <a:prstGeom prst="bentConnector3">
            <a:avLst>
              <a:gd name="adj1" fmla="val 49933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299" name=""/>
          <p:cNvSpPr/>
          <p:nvPr/>
        </p:nvSpPr>
        <p:spPr>
          <a:xfrm>
            <a:off x="5506920" y="314172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5653080" y="4005360"/>
            <a:ext cx="1296720" cy="720720"/>
            <a:chOff x="5653080" y="4005360"/>
            <a:chExt cx="1296720" cy="720720"/>
          </a:xfrm>
        </p:grpSpPr>
        <p:sp>
          <p:nvSpPr>
            <p:cNvPr id="290" name=""/>
            <p:cNvSpPr/>
            <p:nvPr/>
          </p:nvSpPr>
          <p:spPr>
            <a:xfrm>
              <a:off x="5653080" y="4005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797440" y="4148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5508720" y="4221000"/>
            <a:ext cx="215640" cy="28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5653080" y="5013360"/>
            <a:ext cx="1296720" cy="720720"/>
            <a:chOff x="5653080" y="5013360"/>
            <a:chExt cx="1296720" cy="720720"/>
          </a:xfrm>
        </p:grpSpPr>
        <p:sp>
          <p:nvSpPr>
            <p:cNvPr id="292" name=""/>
            <p:cNvSpPr/>
            <p:nvPr/>
          </p:nvSpPr>
          <p:spPr>
            <a:xfrm>
              <a:off x="5653080" y="5013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797440" y="5156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5508720" y="5229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5653080" y="6021360"/>
            <a:ext cx="1296720" cy="720720"/>
            <a:chOff x="5653080" y="6021360"/>
            <a:chExt cx="1296720" cy="720720"/>
          </a:xfrm>
        </p:grpSpPr>
        <p:sp>
          <p:nvSpPr>
            <p:cNvPr id="288" name=""/>
            <p:cNvSpPr/>
            <p:nvPr/>
          </p:nvSpPr>
          <p:spPr>
            <a:xfrm>
              <a:off x="5653080" y="602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797440" y="616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5508720" y="6237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4.44444E-006 L -0.13472 -4.44444E-006 L -0.13472 0.22963 L -0.26805 0.22963 E">
                                      <p:cBhvr>
                                        <p:cTn id="83" dur="3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5.55556E-006 L -0.13334 5.55556E-006 L -0.13334 0.07223 L -0.26806 0.07223 E">
                                      <p:cBhvr>
                                        <p:cTn id="87" dur="30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85185E-006 L -0.13473 1.85185E-006 L -0.13612 -0.07222 L -0.27084 -0.07407 E">
                                      <p:cBhvr>
                                        <p:cTn id="91" dur="3000" fill="hold"/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4.44444E-006 L -0.13195 4.44444E-006 L -0.13334 -0.22222 L -0.26667 -0.22222 E">
                                      <p:cBhvr>
                                        <p:cTn id="95" dur="3000" fill="hold"/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llective communic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cxnSp>
        <p:nvCxnSpPr>
          <p:cNvPr id="310" name=""/>
          <p:cNvCxnSpPr>
            <a:stCxn id="311" idx="3"/>
            <a:endCxn id="312" idx="1"/>
          </p:cNvCxnSpPr>
          <p:nvPr/>
        </p:nvCxnSpPr>
        <p:spPr>
          <a:xfrm>
            <a:off x="3203640" y="4870440"/>
            <a:ext cx="2449800" cy="1512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313" name=""/>
          <p:cNvCxnSpPr>
            <a:stCxn id="311" idx="3"/>
            <a:endCxn id="314" idx="1"/>
          </p:cNvCxnSpPr>
          <p:nvPr/>
        </p:nvCxnSpPr>
        <p:spPr>
          <a:xfrm flipV="1">
            <a:off x="3203640" y="4365360"/>
            <a:ext cx="2449800" cy="50544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315" name=""/>
          <p:cNvCxnSpPr>
            <a:stCxn id="311" idx="3"/>
            <a:endCxn id="316" idx="1"/>
          </p:cNvCxnSpPr>
          <p:nvPr/>
        </p:nvCxnSpPr>
        <p:spPr>
          <a:xfrm>
            <a:off x="3203640" y="4870440"/>
            <a:ext cx="2449800" cy="504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906560" y="4510080"/>
            <a:ext cx="1296720" cy="720720"/>
            <a:chOff x="1906560" y="4510080"/>
            <a:chExt cx="1296720" cy="720720"/>
          </a:xfrm>
        </p:grpSpPr>
        <p:sp>
          <p:nvSpPr>
            <p:cNvPr id="311" name=""/>
            <p:cNvSpPr/>
            <p:nvPr/>
          </p:nvSpPr>
          <p:spPr>
            <a:xfrm>
              <a:off x="1906560" y="451008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050920" y="465300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5651640" y="2925720"/>
            <a:ext cx="1296720" cy="720720"/>
            <a:chOff x="5651640" y="2925720"/>
            <a:chExt cx="1296720" cy="720720"/>
          </a:xfrm>
        </p:grpSpPr>
        <p:sp>
          <p:nvSpPr>
            <p:cNvPr id="320" name=""/>
            <p:cNvSpPr/>
            <p:nvPr/>
          </p:nvSpPr>
          <p:spPr>
            <a:xfrm>
              <a:off x="5651640" y="292572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796000" y="306864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322" name=""/>
          <p:cNvCxnSpPr>
            <a:stCxn id="311" idx="3"/>
            <a:endCxn id="320" idx="1"/>
          </p:cNvCxnSpPr>
          <p:nvPr/>
        </p:nvCxnSpPr>
        <p:spPr>
          <a:xfrm flipV="1">
            <a:off x="3203640" y="3285360"/>
            <a:ext cx="2448720" cy="1585080"/>
          </a:xfrm>
          <a:prstGeom prst="bentConnector3">
            <a:avLst>
              <a:gd name="adj1" fmla="val 49933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323" name=""/>
          <p:cNvSpPr/>
          <p:nvPr/>
        </p:nvSpPr>
        <p:spPr>
          <a:xfrm>
            <a:off x="5506920" y="314172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5653080" y="4005360"/>
            <a:ext cx="1296720" cy="720720"/>
            <a:chOff x="5653080" y="4005360"/>
            <a:chExt cx="1296720" cy="720720"/>
          </a:xfrm>
        </p:grpSpPr>
        <p:sp>
          <p:nvSpPr>
            <p:cNvPr id="314" name=""/>
            <p:cNvSpPr/>
            <p:nvPr/>
          </p:nvSpPr>
          <p:spPr>
            <a:xfrm>
              <a:off x="5653080" y="4005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797440" y="4148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5508720" y="4221000"/>
            <a:ext cx="215640" cy="28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5653080" y="5013360"/>
            <a:ext cx="1296720" cy="720720"/>
            <a:chOff x="5653080" y="5013360"/>
            <a:chExt cx="1296720" cy="720720"/>
          </a:xfrm>
        </p:grpSpPr>
        <p:sp>
          <p:nvSpPr>
            <p:cNvPr id="316" name=""/>
            <p:cNvSpPr/>
            <p:nvPr/>
          </p:nvSpPr>
          <p:spPr>
            <a:xfrm>
              <a:off x="5653080" y="5013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797440" y="5156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5508720" y="5229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5653080" y="6021360"/>
            <a:ext cx="1296720" cy="720720"/>
            <a:chOff x="5653080" y="6021360"/>
            <a:chExt cx="1296720" cy="720720"/>
          </a:xfrm>
        </p:grpSpPr>
        <p:sp>
          <p:nvSpPr>
            <p:cNvPr id="312" name=""/>
            <p:cNvSpPr/>
            <p:nvPr/>
          </p:nvSpPr>
          <p:spPr>
            <a:xfrm>
              <a:off x="5653080" y="602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797440" y="616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5508720" y="6237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1640" y="4653000"/>
            <a:ext cx="431640" cy="431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  <a:ea typeface="標楷體"/>
              </a:rPr>
              <a:t>+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將每個訊息做完運算後再傳給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4.44444E-006 L -0.13472 -4.44444E-006 L -0.13472 0.22963 L -0.26805 0.22963 E">
                                      <p:cBhvr>
                                        <p:cTn id="103" dur="30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5.55556E-006 L -0.13334 5.55556E-006 L -0.13334 0.07223 L -0.26806 0.07223 E">
                                      <p:cBhvr>
                                        <p:cTn id="107" dur="3000" fill="hold"/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85185E-006 L -0.13473 1.85185E-006 L -0.13612 -0.07222 L -0.27084 -0.07407 E">
                                      <p:cBhvr>
                                        <p:cTn id="111" dur="3000" fill="hold"/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4.44444E-006 L -0.13195 4.44444E-006 L -0.13334 -0.22222 L -0.26667 -0.22222 E">
                                      <p:cBhvr>
                                        <p:cTn id="115" dur="30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登入主機設定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CH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環境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登入主機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ssh </a:t>
            </a:r>
            <a:r>
              <a:rPr b="0" lang="zh-TW" sz="20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ymxx@140.129.162.12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輸入密碼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產生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public key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ssh-keygen -t rsa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一直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enter.....enter......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將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id_rsa.pub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更名為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authorized_keys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p .ssh/id_rsa.pub .ssh/authorized_key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設定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.conf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echo "MPD_SECRETWORD=${user}$$" &gt; ~/.mpd.conf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登入主機設定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CH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環境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更改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.mpd.conf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權限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chmod 600 .mpd.conf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設定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mpd.hosts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，將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nodes IP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填入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for ((i=2;i&lt;=7;i++)); do echo "192.168.129.$i" &gt;&gt; mpd.hosts; done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設定路徑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export PATH=$PATH:/opt/mpich2/bin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測試路徑是正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which mpdboot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正常顯示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/opt/mpich2/bin/mpdboot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mkdir .ds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cp mpd.hosts .dsh/machines.lis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dsh -a hostname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啟動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C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啟動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dboot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，並開啟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7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boot -n 7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測試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是否正常啟動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trac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ringtest 1000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釋放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d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allexi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如何執行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CH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平行程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啟動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boot -n 4 [ -f machine_file ]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-n how many mpds to star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-f hostsfil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列出所有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tra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執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iexec -n 12 ./mpi/a.out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結束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allexit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00000" y="974520"/>
            <a:ext cx="6416640" cy="101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如何使用載入／啟動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MPIC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73720" y="2403000"/>
            <a:ext cx="5985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#include &lt;stdio.h&gt;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#include &lt;mpi.h&gt;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main (int argc, char **argv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PI_Init(&amp;argc, &amp;argv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PI_Comm_size (MPI_COMM_WORLD,  &amp;numprocs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PI_Comm_rank (MPI_COMM_WORLD,  &amp;myid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PI_Finalize(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turn 0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900000" y="2708280"/>
            <a:ext cx="2232000" cy="287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116000" y="3716280"/>
            <a:ext cx="2664000" cy="432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752000" y="3056760"/>
            <a:ext cx="306540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啟動該程式在多個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CPU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上的平行計算工作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900000" y="5157720"/>
            <a:ext cx="2664000" cy="358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84840" y="5664960"/>
            <a:ext cx="14151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結束平行計算工作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042920" y="4076640"/>
            <a:ext cx="5834160" cy="289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549680" y="3577320"/>
            <a:ext cx="31658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得知參與平行計算的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CPU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個數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(nproc)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042920" y="4365720"/>
            <a:ext cx="5616720" cy="287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48880" y="4801320"/>
            <a:ext cx="29955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得知我是第幾個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CPU (myid) from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0EDD-7638-4F7E-91F5-B3DAAC556435}" type="slidenum">
              <a:t>19</a:t>
            </a:fld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什麼是平行計算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傳統：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單一程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單一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PU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55640" y="3673440"/>
            <a:ext cx="769320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ELLO MPIC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目標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每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將自己的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id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印出，並且將所有的參與活動的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總數也印出，顯示出自己的主機名稱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ELLO MPIC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#include &lt;stdio.h&gt;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#include &lt;mpi.h&gt;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main (int argc, char **argv) {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int rank, size, len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char name[MPI_MAX_PROCESSOR_NAME]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MPI_Init(&amp;argc, &amp;argv)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int myid, numprocs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/*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取得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總數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*/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MPI_Comm_size(MPI_COMM_WORLD,&amp;numprocs)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/*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取得本身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node id / rank */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MPI_Comm_rank(MPI_COMM_WORLD,&amp;myid)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/*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取得本身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host name */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MPI_Get_processor_name(name, &amp;len)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printf("This is machine %d of %d name = %s\n“, myid, numprocs, name)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MPI_Finalize()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}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}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結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6932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Sen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3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I_Send ((void *)&amp;data, icount, DATA_TYPE, idest, itag, MPI_COMM_WORLD)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送出去的資料起點，可以是純量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scalar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或陣列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array)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資料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count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送出去的資料數量，當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count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的值大於一時，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必須是陣列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_TYPE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送出去的資料類別，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內定的資料類別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dest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是收受資料的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PU id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tag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送出去的資料標籤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COMM_WORLD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通信域。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Recv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3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Recv( void *buf, int count, MPI_Datatype datatype, int source, int tag, MPI_Comm comm, MPI_Status *status 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buf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接收的資料起點，可以是純量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scalar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或陣列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array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資料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count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接收的資料數量，當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count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的值大於一時，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必須是陣列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_TYPE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接收的資料類別，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內定的資料類別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source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是收受資料的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PU id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tag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接收的資料標籤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COMM_WORLD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通信域。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範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目標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每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將自己的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id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資訊送給下一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。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2122560" y="4437000"/>
            <a:ext cx="1296720" cy="720720"/>
            <a:chOff x="2122560" y="4437000"/>
            <a:chExt cx="1296720" cy="720720"/>
          </a:xfrm>
        </p:grpSpPr>
        <p:sp>
          <p:nvSpPr>
            <p:cNvPr id="367" name=""/>
            <p:cNvSpPr/>
            <p:nvPr/>
          </p:nvSpPr>
          <p:spPr>
            <a:xfrm>
              <a:off x="2122560" y="443700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266920" y="457992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5867280" y="4437000"/>
            <a:ext cx="1296720" cy="720720"/>
            <a:chOff x="5867280" y="4437000"/>
            <a:chExt cx="1296720" cy="720720"/>
          </a:xfrm>
        </p:grpSpPr>
        <p:sp>
          <p:nvSpPr>
            <p:cNvPr id="370" name=""/>
            <p:cNvSpPr/>
            <p:nvPr/>
          </p:nvSpPr>
          <p:spPr>
            <a:xfrm>
              <a:off x="5867280" y="443700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011640" y="457992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372" name=""/>
          <p:cNvCxnSpPr>
            <a:stCxn id="367" idx="3"/>
            <a:endCxn id="370" idx="1"/>
          </p:cNvCxnSpPr>
          <p:nvPr/>
        </p:nvCxnSpPr>
        <p:spPr>
          <a:xfrm>
            <a:off x="3419280" y="4797000"/>
            <a:ext cx="2448360" cy="1080"/>
          </a:xfrm>
          <a:prstGeom prst="bentConnector2">
            <a:avLst/>
          </a:prstGeom>
          <a:ln w="38160">
            <a:solidFill>
              <a:srgbClr val="003366"/>
            </a:solidFill>
            <a:miter/>
          </a:ln>
        </p:spPr>
      </p:cxnSp>
      <p:grpSp>
        <p:nvGrpSpPr>
          <p:cNvPr id="373" name=""/>
          <p:cNvGrpSpPr/>
          <p:nvPr/>
        </p:nvGrpSpPr>
        <p:grpSpPr>
          <a:xfrm>
            <a:off x="3995640" y="5950080"/>
            <a:ext cx="1296720" cy="720720"/>
            <a:chOff x="3995640" y="5950080"/>
            <a:chExt cx="1296720" cy="720720"/>
          </a:xfrm>
        </p:grpSpPr>
        <p:sp>
          <p:nvSpPr>
            <p:cNvPr id="374" name=""/>
            <p:cNvSpPr/>
            <p:nvPr/>
          </p:nvSpPr>
          <p:spPr>
            <a:xfrm>
              <a:off x="3995640" y="595008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140000" y="609300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376" name=""/>
          <p:cNvCxnSpPr>
            <a:stCxn id="367" idx="2"/>
            <a:endCxn id="374" idx="1"/>
          </p:cNvCxnSpPr>
          <p:nvPr/>
        </p:nvCxnSpPr>
        <p:spPr>
          <a:xfrm flipH="1" rot="16200000">
            <a:off x="2807280" y="5121720"/>
            <a:ext cx="1153440" cy="1224720"/>
          </a:xfrm>
          <a:prstGeom prst="bentConnector2">
            <a:avLst/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377" name=""/>
          <p:cNvCxnSpPr>
            <a:stCxn id="370" idx="2"/>
            <a:endCxn id="374" idx="3"/>
          </p:cNvCxnSpPr>
          <p:nvPr/>
        </p:nvCxnSpPr>
        <p:spPr>
          <a:xfrm rot="5400000">
            <a:off x="5327640" y="5122080"/>
            <a:ext cx="1153440" cy="1224720"/>
          </a:xfrm>
          <a:prstGeom prst="bentConnector2">
            <a:avLst/>
          </a:prstGeom>
          <a:ln w="38160">
            <a:solidFill>
              <a:srgbClr val="003366"/>
            </a:solidFill>
            <a:miter/>
          </a:ln>
        </p:spPr>
      </p:cxnSp>
      <p:sp>
        <p:nvSpPr>
          <p:cNvPr id="378" name=""/>
          <p:cNvSpPr/>
          <p:nvPr/>
        </p:nvSpPr>
        <p:spPr>
          <a:xfrm>
            <a:off x="2916360" y="4581360"/>
            <a:ext cx="36036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0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659640" y="4581360"/>
            <a:ext cx="36036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0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788000" y="6093000"/>
            <a:ext cx="36036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0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1.11111E-006 L 0.30139 0.00185 E">
                                      <p:cBhvr>
                                        <p:cTn id="198" dur="3000" fill="hold"/>
                                        <p:tgtEl>
                                          <p:spTgt spid="3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30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4.81481E-006 L -0.04028 0.05 L -0.04028 0.21667 L -0.17361 0.21667 E">
                                      <p:cBhvr>
                                        <p:cTn id="207" dur="3000" fill="hold"/>
                                        <p:tgtEl>
                                          <p:spTgt spid="3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6000"/>
                            </p:stCondLst>
                            <p:childTnLst>
                              <p:par>
                                <p:cTn id="20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60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6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96296E-006 L -0.24444 -0.00185 L -0.24444 -0.17037 E">
                                      <p:cBhvr>
                                        <p:cTn id="216" dur="3000" fill="hold"/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9000"/>
                            </p:stCondLst>
                            <p:childTnLst>
                              <p:par>
                                <p:cTn id="21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#include &lt;mpi.h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#include &lt;stdio.h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ain(int argc,char **argv) 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int n, myrank, numproc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Status stat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Init(&amp;argc,&amp;arg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Comm_size(MPI_COMM_WORLD,&amp;numproc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Comm_rank(MPI_COMM_WORLD,&amp;myrank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/* node 0 will send the first message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if(myrank == 0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n = myran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Send(&amp;n, 1, MPI_INT, 1, 99, MPI_COMM_WORL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printf("[Ndde %d]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%d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」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gt;&gt; [Node %d]\n\n", myrank, n, myrank+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/* node 1 to node n-2 will send message to the next node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if(myrank&gt;0 &amp;&amp; myrank&lt;numprocs-1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Recv(&amp;n, 1, MPI_INT, myrank-1, 99, MPI_COMM_WORLD, &amp;statu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printf("[Node %d] &lt;&lt;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%d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」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[Node %d]\n", myrank, n, status.MPI_SOURC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n = myrank; MPI_Send(&amp;n, 1, MPI_INT, myrank+1, 99, MPI_COMM_WORL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printf("[Ndde %d]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%d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」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gt;&gt; [Node %d]\n\n", myrank, n, myrank+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/* the final node n-1 will not send any message but receive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if(myrank==numprocs-1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Recv(&amp;n, 1, MPI_INT, myrank-1, 99, MPI_COMM_WORLD, &amp;statu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printf("[Node %d] &lt;&lt;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%d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」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[Node %d]\n", myrank, n, status.MPI_SOURC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Finaliz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動手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每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將訊息傳送給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0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，由，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0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統一印出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384" name=""/>
          <p:cNvCxnSpPr>
            <a:stCxn id="385" idx="3"/>
            <a:endCxn id="386" idx="1"/>
          </p:cNvCxnSpPr>
          <p:nvPr/>
        </p:nvCxnSpPr>
        <p:spPr>
          <a:xfrm>
            <a:off x="3203640" y="4870440"/>
            <a:ext cx="2449800" cy="1512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387" name=""/>
          <p:cNvCxnSpPr>
            <a:stCxn id="385" idx="3"/>
            <a:endCxn id="388" idx="1"/>
          </p:cNvCxnSpPr>
          <p:nvPr/>
        </p:nvCxnSpPr>
        <p:spPr>
          <a:xfrm flipV="1">
            <a:off x="3203640" y="4365360"/>
            <a:ext cx="2449800" cy="50544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389" name=""/>
          <p:cNvCxnSpPr>
            <a:stCxn id="385" idx="3"/>
            <a:endCxn id="390" idx="1"/>
          </p:cNvCxnSpPr>
          <p:nvPr/>
        </p:nvCxnSpPr>
        <p:spPr>
          <a:xfrm>
            <a:off x="3203640" y="4870440"/>
            <a:ext cx="2449800" cy="504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grpSp>
        <p:nvGrpSpPr>
          <p:cNvPr id="391" name=""/>
          <p:cNvGrpSpPr/>
          <p:nvPr/>
        </p:nvGrpSpPr>
        <p:grpSpPr>
          <a:xfrm>
            <a:off x="1906560" y="4510080"/>
            <a:ext cx="1296720" cy="720720"/>
            <a:chOff x="1906560" y="4510080"/>
            <a:chExt cx="1296720" cy="720720"/>
          </a:xfrm>
        </p:grpSpPr>
        <p:sp>
          <p:nvSpPr>
            <p:cNvPr id="385" name=""/>
            <p:cNvSpPr/>
            <p:nvPr/>
          </p:nvSpPr>
          <p:spPr>
            <a:xfrm>
              <a:off x="1906560" y="451008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050920" y="465300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5651640" y="2925720"/>
            <a:ext cx="1296720" cy="720720"/>
            <a:chOff x="5651640" y="2925720"/>
            <a:chExt cx="1296720" cy="720720"/>
          </a:xfrm>
        </p:grpSpPr>
        <p:sp>
          <p:nvSpPr>
            <p:cNvPr id="394" name=""/>
            <p:cNvSpPr/>
            <p:nvPr/>
          </p:nvSpPr>
          <p:spPr>
            <a:xfrm>
              <a:off x="5651640" y="292572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796000" y="306864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396" name=""/>
          <p:cNvCxnSpPr>
            <a:stCxn id="385" idx="3"/>
            <a:endCxn id="394" idx="1"/>
          </p:cNvCxnSpPr>
          <p:nvPr/>
        </p:nvCxnSpPr>
        <p:spPr>
          <a:xfrm flipV="1">
            <a:off x="3203640" y="3285360"/>
            <a:ext cx="2448720" cy="1585080"/>
          </a:xfrm>
          <a:prstGeom prst="bentConnector3">
            <a:avLst>
              <a:gd name="adj1" fmla="val 49933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397" name=""/>
          <p:cNvSpPr/>
          <p:nvPr/>
        </p:nvSpPr>
        <p:spPr>
          <a:xfrm>
            <a:off x="5506920" y="314172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5653080" y="4005360"/>
            <a:ext cx="1296720" cy="720720"/>
            <a:chOff x="5653080" y="4005360"/>
            <a:chExt cx="1296720" cy="720720"/>
          </a:xfrm>
        </p:grpSpPr>
        <p:sp>
          <p:nvSpPr>
            <p:cNvPr id="388" name=""/>
            <p:cNvSpPr/>
            <p:nvPr/>
          </p:nvSpPr>
          <p:spPr>
            <a:xfrm>
              <a:off x="5653080" y="4005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797440" y="4148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5508720" y="4221000"/>
            <a:ext cx="215640" cy="28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5653080" y="5013360"/>
            <a:ext cx="1296720" cy="720720"/>
            <a:chOff x="5653080" y="5013360"/>
            <a:chExt cx="1296720" cy="720720"/>
          </a:xfrm>
        </p:grpSpPr>
        <p:sp>
          <p:nvSpPr>
            <p:cNvPr id="390" name=""/>
            <p:cNvSpPr/>
            <p:nvPr/>
          </p:nvSpPr>
          <p:spPr>
            <a:xfrm>
              <a:off x="5653080" y="5013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797440" y="5156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508720" y="5229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5653080" y="6021360"/>
            <a:ext cx="1296720" cy="720720"/>
            <a:chOff x="5653080" y="6021360"/>
            <a:chExt cx="1296720" cy="720720"/>
          </a:xfrm>
        </p:grpSpPr>
        <p:sp>
          <p:nvSpPr>
            <p:cNvPr id="386" name=""/>
            <p:cNvSpPr/>
            <p:nvPr/>
          </p:nvSpPr>
          <p:spPr>
            <a:xfrm>
              <a:off x="5653080" y="602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797440" y="616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508720" y="6237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4.44444E-006 L -0.13472 -4.44444E-006 L -0.13472 0.22963 L -0.26805 0.22963 E">
                                      <p:cBhvr>
                                        <p:cTn id="228" dur="3000" fill="hold"/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3000"/>
                            </p:stCondLst>
                            <p:childTnLst>
                              <p:par>
                                <p:cTn id="23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3000"/>
                            </p:stCondLst>
                            <p:childTnLst>
                              <p:par>
                                <p:cTn id="2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5.55556E-006 L -0.13334 5.55556E-006 L -0.13334 0.07223 L -0.26806 0.07223 E">
                                      <p:cBhvr>
                                        <p:cTn id="237" dur="3000" fill="hold"/>
                                        <p:tgtEl>
                                          <p:spTgt spid="4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6000"/>
                            </p:stCondLst>
                            <p:childTnLst>
                              <p:par>
                                <p:cTn id="23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60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6000"/>
                            </p:stCondLst>
                            <p:childTnLst>
                              <p:par>
                                <p:cTn id="24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85185E-006 L -0.13473 1.85185E-006 L -0.13612 -0.07222 L -0.27084 -0.07407 E">
                                      <p:cBhvr>
                                        <p:cTn id="246" dur="3000" fill="hold"/>
                                        <p:tgtEl>
                                          <p:spTgt spid="4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9000"/>
                            </p:stCondLst>
                            <p:childTnLst>
                              <p:par>
                                <p:cTn id="24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9000"/>
                            </p:stCondLst>
                            <p:childTnLst>
                              <p:par>
                                <p:cTn id="2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9000"/>
                            </p:stCondLst>
                            <p:childTnLst>
                              <p:par>
                                <p:cTn id="25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4.44444E-006 L -0.13195 4.44444E-006 L -0.13334 -0.22222 L -0.26667 -0.22222 E">
                                      <p:cBhvr>
                                        <p:cTn id="255" dur="3000" fill="hold"/>
                                        <p:tgtEl>
                                          <p:spTgt spid="4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提示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8487000" cy="43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ain(int argc, char **argv){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/* Node 0 will do the following */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f(myrank == 0) {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/* receive messages from other nodes */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  ……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Recv()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/* other Nodes will do the following */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f(myrank != 0) {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/* send node's rank to Node 0 */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Send(message, 20, MPI_CHAR, 0, 99, MPI_COMM_WORLD)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結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6932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什麼是平行計算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(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續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平行計算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程序切割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多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CPU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55640" y="4002120"/>
            <a:ext cx="799308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再動手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讓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0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可以接受來自任何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的訊息，每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將訊息標上不同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tag (0, 1, 2...)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後傳給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3851280" y="4581360"/>
            <a:ext cx="1296720" cy="720720"/>
            <a:chOff x="3851280" y="4581360"/>
            <a:chExt cx="1296720" cy="720720"/>
          </a:xfrm>
        </p:grpSpPr>
        <p:sp>
          <p:nvSpPr>
            <p:cNvPr id="414" name=""/>
            <p:cNvSpPr/>
            <p:nvPr/>
          </p:nvSpPr>
          <p:spPr>
            <a:xfrm>
              <a:off x="3851280" y="458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995640" y="472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6946920" y="4581360"/>
            <a:ext cx="1296720" cy="720720"/>
            <a:chOff x="6946920" y="4581360"/>
            <a:chExt cx="1296720" cy="720720"/>
          </a:xfrm>
        </p:grpSpPr>
        <p:sp>
          <p:nvSpPr>
            <p:cNvPr id="417" name=""/>
            <p:cNvSpPr/>
            <p:nvPr/>
          </p:nvSpPr>
          <p:spPr>
            <a:xfrm>
              <a:off x="6946920" y="458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091280" y="472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419" name=""/>
          <p:cNvCxnSpPr>
            <a:stCxn id="414" idx="3"/>
            <a:endCxn id="417" idx="1"/>
          </p:cNvCxnSpPr>
          <p:nvPr/>
        </p:nvCxnSpPr>
        <p:spPr>
          <a:xfrm>
            <a:off x="5148360" y="4941360"/>
            <a:ext cx="1799280" cy="1080"/>
          </a:xfrm>
          <a:prstGeom prst="bentConnector2">
            <a:avLst/>
          </a:prstGeom>
          <a:ln w="38160">
            <a:solidFill>
              <a:srgbClr val="003366"/>
            </a:solidFill>
            <a:miter/>
          </a:ln>
        </p:spPr>
      </p:cxnSp>
      <p:grpSp>
        <p:nvGrpSpPr>
          <p:cNvPr id="420" name=""/>
          <p:cNvGrpSpPr/>
          <p:nvPr/>
        </p:nvGrpSpPr>
        <p:grpSpPr>
          <a:xfrm>
            <a:off x="826920" y="4581360"/>
            <a:ext cx="1296720" cy="720720"/>
            <a:chOff x="826920" y="4581360"/>
            <a:chExt cx="1296720" cy="720720"/>
          </a:xfrm>
        </p:grpSpPr>
        <p:sp>
          <p:nvSpPr>
            <p:cNvPr id="421" name=""/>
            <p:cNvSpPr/>
            <p:nvPr/>
          </p:nvSpPr>
          <p:spPr>
            <a:xfrm>
              <a:off x="826920" y="458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971280" y="472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423" name=""/>
          <p:cNvCxnSpPr>
            <a:stCxn id="414" idx="1"/>
            <a:endCxn id="421" idx="3"/>
          </p:cNvCxnSpPr>
          <p:nvPr/>
        </p:nvCxnSpPr>
        <p:spPr>
          <a:xfrm rot="10800000">
            <a:off x="2123280" y="4941000"/>
            <a:ext cx="1728000" cy="1080"/>
          </a:xfrm>
          <a:prstGeom prst="bentConnector2">
            <a:avLst/>
          </a:prstGeom>
          <a:ln w="38160">
            <a:solidFill>
              <a:srgbClr val="003366"/>
            </a:solidFill>
            <a:miter/>
          </a:ln>
        </p:spPr>
      </p:cxnSp>
      <p:sp>
        <p:nvSpPr>
          <p:cNvPr id="424" name=""/>
          <p:cNvSpPr/>
          <p:nvPr/>
        </p:nvSpPr>
        <p:spPr>
          <a:xfrm>
            <a:off x="6804000" y="479736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979640" y="479736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3.7037E-007 L -0.19305 0.00023 E">
                                      <p:cBhvr>
                                        <p:cTn id="26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1.85185E-006 L 0.19027 0.00023 E">
                                      <p:cBhvr>
                                        <p:cTn id="276" dur="2000" fill="hold"/>
                                        <p:tgtEl>
                                          <p:spTgt spid="4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4000"/>
                            </p:stCondLst>
                            <p:childTnLst>
                              <p:par>
                                <p:cTn id="27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提示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I_ANY_SOURC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接收來自任何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訊息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I_ANY_TAG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接收任何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tag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結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6932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Redu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3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Reduce ( void *sendbuf, void *recvbuf, int count, MPI_Datatype datatype, MPI_Op op, int root, MPI_Comm comm 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sendbuf   address of send buffer (choic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ount       number of elements in send buffer (integer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type  data type of elements of send buffer (handl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op            reduce operation (handl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root          rank of root process (integer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omm      communicator (handle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計算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1 + 2 + 3 + .... + 100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#include &lt;stdio.h&gt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#include &lt;mpi.h&gt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main (int argc, char **argv) {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int rank, size, i; int myid, numprocs; int myTotal = 0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int Total = 0; MPI_Init(&amp;argc, &amp;argv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MPI_Comm_size(MPI_COMM_WORLD, &amp;numprocs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MPI_Comm_rank(MPI_COMM_WORLD, &amp;myid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for(i = 1; i &lt;= 100; i++) {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if((i % numprocs) == myid) {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myTotal += i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MPI_Reduce(&amp;myTotal, &amp;Total, 1, MPI_INT, MPI_SUM, 0,MPI_COMM_WORLD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if(myid==0) {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printf("Total = %d\n", Total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MPI_Finalize(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結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838080" y="2421000"/>
            <a:ext cx="5318280" cy="25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動手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計算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Fibonacci number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從第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1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項加至第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n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項總合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Fibonacci numb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f(n) = f(n - 1) + f(n - 2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f(0) = 1, f(1) = 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1, 1, 2, 3, 5, 8, ........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Bcas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3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Bcast ( void *buffer, int count, MPI_Datatype datatype, int root, MPI_Comm comm 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buffer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傳送的資料起點，可以是純量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scalar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或陣列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array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資料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ount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傳送的資料數量，當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count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的值大於一時，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必須是陣列。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type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傳送的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buffer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資料類別，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內定的資料類別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root          root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的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d (rank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是多少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omm    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通信域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Barri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3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I_Barrier (MPI_Comm comm )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comm     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通信域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為什麼需要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Barri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I_Barrier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是為了讓所有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同步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只有當所有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都執行完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I_Barrier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時，所以的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才再繼續往下執行下面的程式碼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為什麼要平行計算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簡省時間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解決大型問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即時性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使用更多來自網路上的資源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使用大量「便宜」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PCs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取代超級電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記憶體不足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無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Barri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258920" y="393372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cast A=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258920" y="42940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print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258920" y="249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258920" y="4654440"/>
            <a:ext cx="1871640" cy="43200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標楷體"/>
              </a:rPr>
              <a:t>node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900000" y="5445000"/>
            <a:ext cx="8064720" cy="1413000"/>
          </a:xfrm>
          <a:prstGeom prst="roundRect">
            <a:avLst>
              <a:gd name="adj" fmla="val 49028"/>
            </a:avLst>
          </a:prstGeom>
          <a:solidFill>
            <a:srgbClr val="cc99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 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為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root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，負責將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A = 1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廣播出去，則有可能出現以下情形：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1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、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 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順利比其它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s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先執行到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MPI_Bcast A=10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，將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A = 1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送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2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、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 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還未執行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  <a:ea typeface="標楷體"/>
              </a:rPr>
              <a:t>MPI_Bcast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A=1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，其它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s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已經執行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print A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，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     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則其它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s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中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A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的結果就不會同步為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10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995640" y="393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cast A=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995640" y="429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print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995640" y="249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995640" y="4653000"/>
            <a:ext cx="1871640" cy="43164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標楷體"/>
              </a:rPr>
              <a:t>node 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804000" y="393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cast A=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804000" y="429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print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804000" y="249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804000" y="4653000"/>
            <a:ext cx="1871640" cy="43164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標楷體"/>
              </a:rPr>
              <a:t>node 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258920" y="285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258920" y="321300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258920" y="357336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995640" y="285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95640" y="321300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995640" y="357336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804000" y="285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804000" y="321300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804000" y="357336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900000" y="256536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637080" y="256536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445080" y="2565360"/>
            <a:ext cx="287640" cy="216000"/>
          </a:xfrm>
          <a:prstGeom prst="rightArrow">
            <a:avLst>
              <a:gd name="adj1" fmla="val 50000"/>
              <a:gd name="adj2" fmla="val 33292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700360" y="2781360"/>
            <a:ext cx="4608360" cy="1728720"/>
          </a:xfrm>
          <a:prstGeom prst="rightArrow">
            <a:avLst>
              <a:gd name="adj1" fmla="val 50000"/>
              <a:gd name="adj2" fmla="val 66644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目前正在執行的程式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900000" y="292572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637080" y="292572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445080" y="2925720"/>
            <a:ext cx="287640" cy="216000"/>
          </a:xfrm>
          <a:prstGeom prst="rightArrow">
            <a:avLst>
              <a:gd name="adj1" fmla="val 50000"/>
              <a:gd name="adj2" fmla="val 33292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900000" y="328464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637080" y="328464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445080" y="328464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900000" y="364500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637080" y="364500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445080" y="364500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900000" y="400536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637080" y="400536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445080" y="400536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900000" y="436572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637080" y="436572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445080" y="436572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804000" y="4365720"/>
            <a:ext cx="2089080" cy="107928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995640" y="4365720"/>
            <a:ext cx="2089080" cy="107928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58920" y="4365720"/>
            <a:ext cx="2089080" cy="107928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268360" y="4653000"/>
            <a:ext cx="503280" cy="504720"/>
          </a:xfrm>
          <a:prstGeom prst="ellipse">
            <a:avLst/>
          </a:prstGeom>
          <a:noFill/>
          <a:ln w="572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8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000"/>
                            </p:stCondLst>
                            <p:childTnLst>
                              <p:par>
                                <p:cTn id="298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0" dur="250" autoRev="1" fill="hold"/>
                                        <p:tgtEl>
                                          <p:spTgt spid="4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01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3" dur="250" autoRev="1" fill="hold"/>
                                        <p:tgtEl>
                                          <p:spTgt spid="4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04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5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6" dur="250" autoRev="1" fill="hold"/>
                                        <p:tgtEl>
                                          <p:spTgt spid="4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3500"/>
                            </p:stCondLst>
                            <p:childTnLst>
                              <p:par>
                                <p:cTn id="308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450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4500"/>
                            </p:stCondLst>
                            <p:childTnLst>
                              <p:par>
                                <p:cTn id="322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4" dur="250" autoRev="1" fill="hold"/>
                                        <p:tgtEl>
                                          <p:spTgt spid="4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25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6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7" dur="250" autoRev="1" fill="hold"/>
                                        <p:tgtEl>
                                          <p:spTgt spid="4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28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9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0" dur="250" autoRev="1" fill="hold"/>
                                        <p:tgtEl>
                                          <p:spTgt spid="4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32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70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7000"/>
                            </p:stCondLst>
                            <p:childTnLst>
                              <p:par>
                                <p:cTn id="346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7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8" dur="250" autoRev="1" fill="hold"/>
                                        <p:tgtEl>
                                          <p:spTgt spid="47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9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0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1" dur="250" autoRev="1" fill="hold"/>
                                        <p:tgtEl>
                                          <p:spTgt spid="4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52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3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4" dur="250" autoRev="1" fill="hold"/>
                                        <p:tgtEl>
                                          <p:spTgt spid="4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8500"/>
                            </p:stCondLst>
                            <p:childTnLst>
                              <p:par>
                                <p:cTn id="356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950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9500"/>
                            </p:stCondLst>
                            <p:childTnLst>
                              <p:par>
                                <p:cTn id="366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8" dur="250" autoRev="1" fill="hold"/>
                                        <p:tgtEl>
                                          <p:spTgt spid="47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69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0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1" dur="250" autoRev="1" fill="hold"/>
                                        <p:tgtEl>
                                          <p:spTgt spid="4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1000"/>
                            </p:stCondLst>
                            <p:childTnLst>
                              <p:par>
                                <p:cTn id="37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3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4" dur="250" autoRev="1" fill="hold"/>
                                        <p:tgtEl>
                                          <p:spTgt spid="4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85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6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7" dur="250" autoRev="1" fill="hold"/>
                                        <p:tgtEl>
                                          <p:spTgt spid="4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3500"/>
                            </p:stCondLst>
                            <p:childTnLst>
                              <p:par>
                                <p:cTn id="38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450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5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6" dur="250" autoRev="1" fill="hold"/>
                                        <p:tgtEl>
                                          <p:spTgt spid="4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6000"/>
                            </p:stCondLst>
                            <p:childTnLst>
                              <p:par>
                                <p:cTn id="398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17000"/>
                            </p:stCondLst>
                            <p:childTnLst>
                              <p:par>
                                <p:cTn id="4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7000"/>
                            </p:stCondLst>
                            <p:childTnLst>
                              <p:par>
                                <p:cTn id="410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1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2" dur="250" autoRev="1" fill="hold"/>
                                        <p:tgtEl>
                                          <p:spTgt spid="4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13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4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5" dur="250" autoRev="1" fill="hold"/>
                                        <p:tgtEl>
                                          <p:spTgt spid="4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8500"/>
                            </p:stCondLst>
                            <p:childTnLst>
                              <p:par>
                                <p:cTn id="41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9500"/>
                            </p:stCondLst>
                            <p:childTnLst>
                              <p:par>
                                <p:cTn id="4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9500"/>
                            </p:stCondLst>
                            <p:childTnLst>
                              <p:par>
                                <p:cTn id="425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6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7" dur="250" autoRev="1" fill="hold"/>
                                        <p:tgtEl>
                                          <p:spTgt spid="4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21000"/>
                            </p:stCondLst>
                            <p:childTnLst>
                              <p:par>
                                <p:cTn id="42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2000"/>
                            </p:stCondLst>
                            <p:childTnLst>
                              <p:par>
                                <p:cTn id="4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22000"/>
                            </p:stCondLst>
                            <p:childTnLst>
                              <p:par>
                                <p:cTn id="435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6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7" dur="250" autoRev="1" fill="hold"/>
                                        <p:tgtEl>
                                          <p:spTgt spid="4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3500"/>
                            </p:stCondLst>
                            <p:childTnLst>
                              <p:par>
                                <p:cTn id="4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24500"/>
                            </p:stCondLst>
                            <p:childTnLst>
                              <p:par>
                                <p:cTn id="4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24500"/>
                            </p:stCondLst>
                            <p:childTnLst>
                              <p:par>
                                <p:cTn id="445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6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7" dur="250" autoRev="1" fill="hold"/>
                                        <p:tgtEl>
                                          <p:spTgt spid="4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有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Barri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258920" y="393372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arri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258920" y="42940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print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258920" y="249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258920" y="4654440"/>
            <a:ext cx="1871640" cy="43200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標楷體"/>
              </a:rPr>
              <a:t>node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900000" y="5445000"/>
            <a:ext cx="8064720" cy="1413000"/>
          </a:xfrm>
          <a:prstGeom prst="roundRect">
            <a:avLst>
              <a:gd name="adj" fmla="val 49028"/>
            </a:avLst>
          </a:prstGeom>
          <a:solidFill>
            <a:srgbClr val="cc99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此時不管那個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s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，皆會在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MPI_Barrier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等待，直至全部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s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執行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完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MPI_Barrier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時才會繼續往下執行程式碼，如此一來才可確保每個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root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已經將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A = 1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廣播出去，使每個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s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的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A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都改為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10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995640" y="393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arri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995640" y="429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print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995640" y="249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995640" y="4653000"/>
            <a:ext cx="1871640" cy="43164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標楷體"/>
              </a:rPr>
              <a:t>node 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804000" y="393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arri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804000" y="429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print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804000" y="249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804000" y="4653000"/>
            <a:ext cx="1871640" cy="43164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標楷體"/>
              </a:rPr>
              <a:t>node 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258920" y="285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258920" y="321300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258920" y="357336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cast A=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95640" y="285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95640" y="321300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995640" y="357336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cast A=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804000" y="285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804000" y="321300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804000" y="357336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cast A=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900000" y="256536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637080" y="256536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6445080" y="2565360"/>
            <a:ext cx="287640" cy="216000"/>
          </a:xfrm>
          <a:prstGeom prst="rightArrow">
            <a:avLst>
              <a:gd name="adj1" fmla="val 50000"/>
              <a:gd name="adj2" fmla="val 33292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700360" y="2781360"/>
            <a:ext cx="4608360" cy="1728720"/>
          </a:xfrm>
          <a:prstGeom prst="rightArrow">
            <a:avLst>
              <a:gd name="adj1" fmla="val 50000"/>
              <a:gd name="adj2" fmla="val 66644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目前正在執行的程式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900000" y="292572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637080" y="292572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445080" y="2925720"/>
            <a:ext cx="287640" cy="216000"/>
          </a:xfrm>
          <a:prstGeom prst="rightArrow">
            <a:avLst>
              <a:gd name="adj1" fmla="val 50000"/>
              <a:gd name="adj2" fmla="val 33292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900000" y="328464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637080" y="328464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445080" y="328464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900000" y="364500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637080" y="364500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445080" y="364500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637080" y="400536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445080" y="400536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900000" y="436572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637080" y="436572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445080" y="436572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804000" y="4365720"/>
            <a:ext cx="2089080" cy="107928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995640" y="4365720"/>
            <a:ext cx="2089080" cy="107928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258920" y="4365720"/>
            <a:ext cx="2089080" cy="107928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2268360" y="4653000"/>
            <a:ext cx="503280" cy="504720"/>
          </a:xfrm>
          <a:prstGeom prst="ellipse">
            <a:avLst/>
          </a:prstGeom>
          <a:noFill/>
          <a:ln w="572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898560" y="400536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005440" y="4653000"/>
            <a:ext cx="503280" cy="504720"/>
          </a:xfrm>
          <a:prstGeom prst="ellipse">
            <a:avLst/>
          </a:prstGeom>
          <a:noFill/>
          <a:ln w="572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812000" y="4653000"/>
            <a:ext cx="503280" cy="504720"/>
          </a:xfrm>
          <a:prstGeom prst="ellipse">
            <a:avLst/>
          </a:prstGeom>
          <a:noFill/>
          <a:ln w="572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6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2000"/>
                            </p:stCondLst>
                            <p:childTnLst>
                              <p:par>
                                <p:cTn id="4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6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7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8" dur="250" autoRev="1" fill="hold"/>
                                        <p:tgtEl>
                                          <p:spTgt spid="5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69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0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1" dur="250" autoRev="1" fill="hold"/>
                                        <p:tgtEl>
                                          <p:spTgt spid="5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3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4" dur="250" autoRev="1" fill="hold"/>
                                        <p:tgtEl>
                                          <p:spTgt spid="5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3500"/>
                            </p:stCondLst>
                            <p:childTnLst>
                              <p:par>
                                <p:cTn id="476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4500"/>
                            </p:stCondLst>
                            <p:childTnLst>
                              <p:par>
                                <p:cTn id="4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4500"/>
                            </p:stCondLst>
                            <p:childTnLst>
                              <p:par>
                                <p:cTn id="490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1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2" dur="250" autoRev="1" fill="hold"/>
                                        <p:tgtEl>
                                          <p:spTgt spid="5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4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5" dur="250" autoRev="1" fill="hold"/>
                                        <p:tgtEl>
                                          <p:spTgt spid="5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96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7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8" dur="250" autoRev="1" fill="hold"/>
                                        <p:tgtEl>
                                          <p:spTgt spid="5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6000"/>
                            </p:stCondLst>
                            <p:childTnLst>
                              <p:par>
                                <p:cTn id="500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7000"/>
                            </p:stCondLst>
                            <p:childTnLst>
                              <p:par>
                                <p:cTn id="5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7000"/>
                            </p:stCondLst>
                            <p:childTnLst>
                              <p:par>
                                <p:cTn id="510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1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2" dur="250" autoRev="1" fill="hold"/>
                                        <p:tgtEl>
                                          <p:spTgt spid="5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13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4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5" dur="250" autoRev="1" fill="hold"/>
                                        <p:tgtEl>
                                          <p:spTgt spid="5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8500"/>
                            </p:stCondLst>
                            <p:childTnLst>
                              <p:par>
                                <p:cTn id="51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9500"/>
                            </p:stCondLst>
                            <p:childTnLst>
                              <p:par>
                                <p:cTn id="5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9500"/>
                            </p:stCondLst>
                            <p:childTnLst>
                              <p:par>
                                <p:cTn id="527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8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9" dur="250" autoRev="1" fill="hold"/>
                                        <p:tgtEl>
                                          <p:spTgt spid="5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30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1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2" dur="250" autoRev="1" fill="hold"/>
                                        <p:tgtEl>
                                          <p:spTgt spid="5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1000"/>
                            </p:stCondLst>
                            <p:childTnLst>
                              <p:par>
                                <p:cTn id="534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5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2000"/>
                            </p:stCondLst>
                            <p:childTnLst>
                              <p:par>
                                <p:cTn id="544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5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6" dur="250" autoRev="1" fill="hold"/>
                                        <p:tgtEl>
                                          <p:spTgt spid="5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47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8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9" dur="250" autoRev="1" fill="hold"/>
                                        <p:tgtEl>
                                          <p:spTgt spid="5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3500"/>
                            </p:stCondLst>
                            <p:childTnLst>
                              <p:par>
                                <p:cTn id="55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4500"/>
                            </p:stCondLst>
                            <p:childTnLst>
                              <p:par>
                                <p:cTn id="5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4500"/>
                            </p:stCondLst>
                            <p:childTnLst>
                              <p:par>
                                <p:cTn id="557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8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9" dur="250" autoRev="1" fill="hold"/>
                                        <p:tgtEl>
                                          <p:spTgt spid="5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16000"/>
                            </p:stCondLst>
                            <p:childTnLst>
                              <p:par>
                                <p:cTn id="56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17000"/>
                            </p:stCondLst>
                            <p:childTnLst>
                              <p:par>
                                <p:cTn id="5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17000"/>
                            </p:stCondLst>
                            <p:childTnLst>
                              <p:par>
                                <p:cTn id="567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8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9" dur="250" autoRev="1" fill="hold"/>
                                        <p:tgtEl>
                                          <p:spTgt spid="5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18500"/>
                            </p:stCondLst>
                            <p:childTnLst>
                              <p:par>
                                <p:cTn id="57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19500"/>
                            </p:stCondLst>
                            <p:childTnLst>
                              <p:par>
                                <p:cTn id="5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19500"/>
                            </p:stCondLst>
                            <p:childTnLst>
                              <p:par>
                                <p:cTn id="577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8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9" dur="250" autoRev="1" fill="hold"/>
                                        <p:tgtEl>
                                          <p:spTgt spid="5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21000"/>
                            </p:stCondLst>
                            <p:childTnLst>
                              <p:par>
                                <p:cTn id="58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22000"/>
                            </p:stCondLst>
                            <p:childTnLst>
                              <p:par>
                                <p:cTn id="5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22000"/>
                            </p:stCondLst>
                            <p:childTnLst>
                              <p:par>
                                <p:cTn id="595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6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7" dur="250" autoRev="1" fill="hold"/>
                                        <p:tgtEl>
                                          <p:spTgt spid="5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98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0" dur="250" autoRev="1" fill="hold"/>
                                        <p:tgtEl>
                                          <p:spTgt spid="5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01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2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3" dur="250" autoRev="1" fill="hold"/>
                                        <p:tgtEl>
                                          <p:spTgt spid="52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23500"/>
                            </p:stCondLst>
                            <p:childTnLst>
                              <p:par>
                                <p:cTn id="60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24500"/>
                            </p:stCondLst>
                            <p:childTnLst>
                              <p:par>
                                <p:cTn id="60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24500"/>
                            </p:stCondLst>
                            <p:childTnLst>
                              <p:par>
                                <p:cTn id="61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24500"/>
                            </p:stCondLst>
                            <p:childTnLst>
                              <p:par>
                                <p:cTn id="6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24500"/>
                            </p:stCondLst>
                            <p:childTnLst>
                              <p:par>
                                <p:cTn id="6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mph" presetID="26" repeatCount="400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0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1" dur="250" autoRev="1" fill="hold"/>
                                        <p:tgtEl>
                                          <p:spTgt spid="5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32" nodeType="withEffect" fill="hold" presetClass="emph" presetID="26" repeatCount="400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3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4" dur="250" autoRev="1" fill="hold"/>
                                        <p:tgtEl>
                                          <p:spTgt spid="53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35" nodeType="withEffect" fill="hold" presetClass="emph" presetID="26" repeatCount="400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6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7" dur="250" autoRev="1" fill="hold"/>
                                        <p:tgtEl>
                                          <p:spTgt spid="53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範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#include &lt;stdio.h&gt;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#include &lt;mpi.h&gt;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ain (int argc, char **argv) {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nt i = 0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nt myid, numprocs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PI_Init(&amp;argc, &amp;argv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PI_Comm_size(MPI_COMM_WORLD, &amp;numprocs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PI_Comm_rank(MPI_COMM_WORLD, &amp;myid);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/*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這邊先印出所有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的整數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初始狀態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printf("[Node %d] i = %d \n", myid, i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/* node 0 (root)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會要求使用者輸入一個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NT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的整數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f (myid == 0) {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printf("Please input a INT number &gt;&gt;"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scanf("%d", &amp;i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/* node 0 (root)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會將所有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的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的值設為使用者所輸入的數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PI_Bcast(&amp;i, 1, MPI_INT, 0, MPI_COMM_WORLD);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/*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所有的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在此同步，以確認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node 0 (root)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已將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送給所有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nodes */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PI_Barrier(MPI_COMM_WORLD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printf("[Node %d] i = %d \n", myid, i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PI_Finalize(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結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838080" y="4797360"/>
            <a:ext cx="7693200" cy="20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我們可以發現到第二行很明顯的不同，這就是前面介紹，不一定誰會先執行到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PRINT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的指令，所以我在第四行才能輸入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100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然後底下每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的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i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都被設為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100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1"/>
          <a:srcRect l="0" t="0" r="20818" b="0"/>
          <a:stretch/>
        </p:blipFill>
        <p:spPr>
          <a:xfrm>
            <a:off x="755640" y="2292480"/>
            <a:ext cx="6840720" cy="25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CH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設計注意事項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29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ICH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屬於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SIMD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架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指令及資料量切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優：有助於平行運算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3300"/>
                </a:solidFill>
                <a:latin typeface="Arial"/>
              </a:rPr>
              <a:t>缺：增加傳輸次數及傳輸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website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trac.nchc.org.tw/grid/wiki/mpic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ail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wade@nchc.org.tw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參考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www-unix.mcs.anl.gov/mpi/mpich1/docs.htm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http://www-unix.mcs.anl.gov/mpi/www/www3/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http://www.mpi-forum.org/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平行計算種類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Flynn's taxonom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多處理器架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838080" y="3573360"/>
          <a:ext cx="7693200" cy="2946600"/>
        </p:xfrm>
        <a:graphic>
          <a:graphicData uri="http://schemas.openxmlformats.org/drawingml/2006/table">
            <a:tbl>
              <a:tblPr/>
              <a:tblGrid>
                <a:gridCol w="2365560"/>
                <a:gridCol w="2592360"/>
                <a:gridCol w="2735280"/>
              </a:tblGrid>
              <a:tr h="99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單一程序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ingle Instruction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多程序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ultiple Instruction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單一資料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ingle Data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ISD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ISD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7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多資料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ultiple Data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IMD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IMD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203640" y="3933720"/>
            <a:ext cx="2089080" cy="100800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ingle Instruction, Single Data (SISD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14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非平行計算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單一程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單一資料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ex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：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a = 1 + 1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348000" y="5516640"/>
            <a:ext cx="1871640" cy="720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 =  1  +  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56000" y="4149720"/>
            <a:ext cx="79236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348000" y="4149720"/>
            <a:ext cx="79236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67280" y="5086440"/>
            <a:ext cx="360360" cy="35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203640" y="3933720"/>
            <a:ext cx="2089080" cy="100800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14560" y="3933720"/>
            <a:ext cx="2089080" cy="100800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04000" y="3933720"/>
            <a:ext cx="2089080" cy="100800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66"/>
                </a:solidFill>
                <a:latin typeface="Arial"/>
              </a:rPr>
              <a:t>Single Instruction, Multiple Data(SIMD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126640" cy="15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平行計算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單一程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多資料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ex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：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 = b + 1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，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, b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是二組陣列，則同一時間就可以計算完成。而不需要算完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[0]  =  b</a:t>
            </a:r>
            <a:r>
              <a:rPr b="0" lang="zh-TW" sz="1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[0]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 + 1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，再算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[1]  = b</a:t>
            </a:r>
            <a:r>
              <a:rPr b="0" lang="zh-TW" sz="1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[1]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 + 1…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再算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[n]  = b[n] + 1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。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58920" y="5516640"/>
            <a:ext cx="7489800" cy="720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 = b +  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266920" y="4149720"/>
            <a:ext cx="79236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58920" y="4149720"/>
            <a:ext cx="79200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b[0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979640" y="5084640"/>
            <a:ext cx="360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356000" y="4149720"/>
            <a:ext cx="79236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348000" y="4149720"/>
            <a:ext cx="79236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b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067280" y="5084640"/>
            <a:ext cx="360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956720" y="4149720"/>
            <a:ext cx="79200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948360" y="4149720"/>
            <a:ext cx="79236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b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667640" y="5084640"/>
            <a:ext cx="360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435640" y="4797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……………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114560" y="3933720"/>
            <a:ext cx="6481800" cy="79056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66"/>
                </a:solidFill>
                <a:latin typeface="Arial"/>
              </a:rPr>
              <a:t>Single Instruction, Multiple Data(MISD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5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平行計算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多程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單一資料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a = (2 + 3) + (2 - 3) + (2 * 3) + (2 / 3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258920" y="52293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2 +  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932360" y="4005360"/>
            <a:ext cx="79200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916360" y="4005360"/>
            <a:ext cx="79200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763640" y="4799160"/>
            <a:ext cx="360360" cy="35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843280" y="52293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2 - 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356000" y="52293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2 * 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5229360"/>
            <a:ext cx="1368720" cy="504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2 / 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48000" y="4797360"/>
            <a:ext cx="360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859280" y="4799160"/>
            <a:ext cx="360360" cy="35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443640" y="4797360"/>
            <a:ext cx="360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564000" y="6453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187" name=""/>
          <p:cNvCxnSpPr>
            <a:stCxn id="176" idx="2"/>
            <a:endCxn id="186" idx="0"/>
          </p:cNvCxnSpPr>
          <p:nvPr/>
        </p:nvCxnSpPr>
        <p:spPr>
          <a:xfrm flipH="1" rot="16200000">
            <a:off x="2736000" y="4941000"/>
            <a:ext cx="720000" cy="2305440"/>
          </a:xfrm>
          <a:prstGeom prst="bentConnector3">
            <a:avLst>
              <a:gd name="adj1" fmla="val 49874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188" name=""/>
          <p:cNvCxnSpPr>
            <a:stCxn id="180" idx="2"/>
            <a:endCxn id="186" idx="0"/>
          </p:cNvCxnSpPr>
          <p:nvPr/>
        </p:nvCxnSpPr>
        <p:spPr>
          <a:xfrm flipH="1" rot="16200000">
            <a:off x="3528000" y="5733000"/>
            <a:ext cx="720000" cy="721440"/>
          </a:xfrm>
          <a:prstGeom prst="bentConnector3">
            <a:avLst>
              <a:gd name="adj1" fmla="val 49874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189" name=""/>
          <p:cNvCxnSpPr>
            <a:stCxn id="181" idx="2"/>
            <a:endCxn id="186" idx="0"/>
          </p:cNvCxnSpPr>
          <p:nvPr/>
        </p:nvCxnSpPr>
        <p:spPr>
          <a:xfrm rot="5400000">
            <a:off x="4283640" y="5697360"/>
            <a:ext cx="720000" cy="793080"/>
          </a:xfrm>
          <a:prstGeom prst="bentConnector3">
            <a:avLst>
              <a:gd name="adj1" fmla="val 49874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190" name=""/>
          <p:cNvCxnSpPr>
            <a:stCxn id="182" idx="2"/>
            <a:endCxn id="186" idx="0"/>
          </p:cNvCxnSpPr>
          <p:nvPr/>
        </p:nvCxnSpPr>
        <p:spPr>
          <a:xfrm rot="5400000">
            <a:off x="5039280" y="4941720"/>
            <a:ext cx="720000" cy="2304360"/>
          </a:xfrm>
          <a:prstGeom prst="bentConnector3">
            <a:avLst>
              <a:gd name="adj1" fmla="val 49874"/>
            </a:avLst>
          </a:prstGeom>
          <a:ln w="38160">
            <a:solidFill>
              <a:srgbClr val="003366"/>
            </a:solidFill>
            <a:miter/>
            <a:tailEnd len="lg" type="triangle" w="lg"/>
          </a:ln>
        </p:spPr>
      </p:cxnSp>
      <p:sp>
        <p:nvSpPr>
          <p:cNvPr id="191" name=""/>
          <p:cNvSpPr/>
          <p:nvPr/>
        </p:nvSpPr>
        <p:spPr>
          <a:xfrm>
            <a:off x="4033800" y="5805360"/>
            <a:ext cx="43200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+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834480" y="834120"/>
            <a:ext cx="79862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66"/>
                </a:solidFill>
                <a:latin typeface="Arial"/>
              </a:rPr>
              <a:t>Multiple Instruction, Multiple Data(MIMD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14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平行計算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多程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多資料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 = (b + c) + (d - e) + (f * g)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，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, b, c, d, e, f, g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為陣列如果有三臺機器可分別執行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(b + c)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、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(d - e)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及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(f * g)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，則三個運算可同時進行。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58920" y="3789360"/>
            <a:ext cx="1441440" cy="57456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58920" y="558972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b +  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052720" y="387504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c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32000" y="3875040"/>
            <a:ext cx="57600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b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763640" y="5375160"/>
            <a:ext cx="360360" cy="21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065480" y="558972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d - 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804000" y="558972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 * 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5375160"/>
            <a:ext cx="360360" cy="21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307280" y="5375160"/>
            <a:ext cx="360360" cy="21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67280" y="6524640"/>
            <a:ext cx="1368360" cy="289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95" idx="2"/>
            <a:endCxn id="203" idx="0"/>
          </p:cNvCxnSpPr>
          <p:nvPr/>
        </p:nvCxnSpPr>
        <p:spPr>
          <a:xfrm flipH="1" rot="16200000">
            <a:off x="3060000" y="4833000"/>
            <a:ext cx="575280" cy="2808720"/>
          </a:xfrm>
          <a:prstGeom prst="bentConnector3">
            <a:avLst>
              <a:gd name="adj1" fmla="val 49718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05" name=""/>
          <p:cNvCxnSpPr>
            <a:stCxn id="199" idx="2"/>
            <a:endCxn id="203" idx="0"/>
          </p:cNvCxnSpPr>
          <p:nvPr/>
        </p:nvCxnSpPr>
        <p:spPr>
          <a:xfrm flipH="1" rot="16200000">
            <a:off x="4463280" y="6236280"/>
            <a:ext cx="575280" cy="2160"/>
          </a:xfrm>
          <a:prstGeom prst="bentConnector3">
            <a:avLst>
              <a:gd name="adj1" fmla="val 49718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06" name=""/>
          <p:cNvCxnSpPr>
            <a:stCxn id="200" idx="2"/>
            <a:endCxn id="203" idx="0"/>
          </p:cNvCxnSpPr>
          <p:nvPr/>
        </p:nvCxnSpPr>
        <p:spPr>
          <a:xfrm rot="5400000">
            <a:off x="5831640" y="4868640"/>
            <a:ext cx="575280" cy="2737800"/>
          </a:xfrm>
          <a:prstGeom prst="bentConnector3">
            <a:avLst>
              <a:gd name="adj1" fmla="val 49718"/>
            </a:avLst>
          </a:prstGeom>
          <a:ln w="38160">
            <a:solidFill>
              <a:srgbClr val="003366"/>
            </a:solidFill>
            <a:miter/>
            <a:tailEnd len="lg" type="triangle" w="lg"/>
          </a:ln>
        </p:spPr>
      </p:cxnSp>
      <p:sp>
        <p:nvSpPr>
          <p:cNvPr id="207" name=""/>
          <p:cNvSpPr/>
          <p:nvPr/>
        </p:nvSpPr>
        <p:spPr>
          <a:xfrm>
            <a:off x="4572000" y="6021360"/>
            <a:ext cx="360360" cy="300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+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258920" y="4724280"/>
            <a:ext cx="1441440" cy="57492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052720" y="480996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c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332000" y="4809960"/>
            <a:ext cx="57600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b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3640" y="4365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…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995640" y="3790800"/>
            <a:ext cx="1441440" cy="57492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789440" y="3876840"/>
            <a:ext cx="576360" cy="417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e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068720" y="3876840"/>
            <a:ext cx="576360" cy="417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d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995640" y="4726080"/>
            <a:ext cx="1441440" cy="57456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789440" y="481176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e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068720" y="481176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d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00720" y="43671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…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730920" y="3789360"/>
            <a:ext cx="1441440" cy="57456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524720" y="387504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g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804000" y="387504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730920" y="4724280"/>
            <a:ext cx="1441440" cy="57492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524720" y="480996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g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04000" y="480996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f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236000" y="4365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…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9T06:09:08Z</dcterms:created>
  <dc:creator>wsd</dc:creator>
  <dc:description/>
  <dc:language>en-US</dc:language>
  <cp:lastModifiedBy>wsd</cp:lastModifiedBy>
  <dcterms:modified xsi:type="dcterms:W3CDTF">2008-08-02T07:31:10Z</dcterms:modified>
  <cp:revision>31</cp:revision>
  <dc:subject/>
  <dc:title>投影片 1</dc:title>
</cp:coreProperties>
</file>