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021C-B118-4925-8050-38065268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8C7E-80D9-40D9-88F9-1335A879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4387-DA35-43F3-A6E4-8B67E24DB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6DF4-577D-4DBF-B5BA-3BDE5ED9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2709-F079-490B-8279-01645654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9CB5-5940-42AB-A087-66E0C896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31E7-C1C5-49CC-9583-3B1B60A0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B381-D192-4DC7-AF1C-B80FA394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0D81-E9FE-46E7-9805-03E8F49D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9BD9-3D92-428B-99B0-8F2BC91E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C93F-CDDD-4CD8-8CC9-D9547E06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42EF-21C1-4A0E-9A50-C627ECED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5BF4-C4E4-45E3-9B12-B951D036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AA61-AFEA-4649-B8FC-45A36BE7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FB49-FE0F-455C-AB74-50A08BED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11BE-D6CF-4A06-B19C-97C42162C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F074-1FA8-4FA2-8947-D6CF36F13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F2685-D732-4BC5-A9FB-CAD7282C9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073C0-0AFD-4E64-967C-8A7AAC34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4BB28-DB6F-4F2F-94AF-53076FF3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02135-946C-4864-B952-B424C692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96539-E2D0-420B-9693-7BE01E23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23C3-A1D7-4F14-8520-D0FE6979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9E597-FDFB-4BD8-A0B2-FC90E32E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5A50C-1B4F-448E-B50B-DE4AB038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57DFB-3854-4537-BB1D-AFDD3132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74941-AD1A-4381-B865-365D1C7E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E42A9-508F-4694-9144-9814AA0B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B3F90-873B-41A4-BE6C-8D19AC8D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84050-4349-4AF6-9F36-9E8462AF9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20D8-08F9-4096-928D-66D6869B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026C-8F2B-43DC-9153-533222BD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3BAD-D58F-4C81-8674-A8C91CA5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FDA1-D0F1-402D-B947-CE88877C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079E-7423-46FB-93F3-D5382E00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288F-AA9C-4C93-A559-80F67469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798F-DF67-4F43-9DBF-676B3190D8A6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11AE-196F-4408-86B0-EE024E005053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513B-33B0-4BBB-ABDD-E4E444027519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ymxx@140.129.162.12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trac.nchc.org.tw/grid/wiki/mpich" TargetMode="Externa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-unix.mcs.anl.gov/mpi/mpich1/docs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trac.nchc.org.tw/grid/changeset/1" TargetMode="External"/><Relationship Id="rId2" Type="http://schemas.openxmlformats.org/officeDocument/2006/relationships/hyperlink" Target="https://trac.nchc.org.tw/grid/changeset/1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平行運算簡介／實例操作</a:t>
            </a:r>
            <a:br>
              <a:rPr sz="3600"/>
            </a:b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企鵝也會的 </a:t>
            </a: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鄧偉華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wade@nchc.org.tw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6126120"/>
            <a:ext cx="45720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906560" y="4221000"/>
            <a:ext cx="1296720" cy="720720"/>
            <a:chOff x="1906560" y="4221000"/>
            <a:chExt cx="1296720" cy="720720"/>
          </a:xfrm>
        </p:grpSpPr>
        <p:sp>
          <p:nvSpPr>
            <p:cNvPr id="228" name=""/>
            <p:cNvSpPr/>
            <p:nvPr/>
          </p:nvSpPr>
          <p:spPr>
            <a:xfrm>
              <a:off x="1906560" y="4221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50920" y="4363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651640" y="4221000"/>
            <a:ext cx="1296720" cy="720720"/>
            <a:chOff x="5651640" y="4221000"/>
            <a:chExt cx="1296720" cy="720720"/>
          </a:xfrm>
        </p:grpSpPr>
        <p:sp>
          <p:nvSpPr>
            <p:cNvPr id="231" name=""/>
            <p:cNvSpPr/>
            <p:nvPr/>
          </p:nvSpPr>
          <p:spPr>
            <a:xfrm>
              <a:off x="5651640" y="4221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96000" y="4363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33" name=""/>
          <p:cNvCxnSpPr>
            <a:stCxn id="228" idx="3"/>
            <a:endCxn id="231" idx="1"/>
          </p:cNvCxnSpPr>
          <p:nvPr/>
        </p:nvCxnSpPr>
        <p:spPr>
          <a:xfrm>
            <a:off x="3203640" y="4581000"/>
            <a:ext cx="244872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234" name=""/>
          <p:cNvSpPr/>
          <p:nvPr/>
        </p:nvSpPr>
        <p:spPr>
          <a:xfrm>
            <a:off x="5506920" y="443880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30560" y="443700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時間只有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傳訊息給另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9 2.58094E-006 L -0.2559 -0.00023 E">
                                      <p:cBhvr>
                                        <p:cTn id="9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37" name=""/>
          <p:cNvCxnSpPr>
            <a:stCxn id="238" idx="3"/>
            <a:endCxn id="239" idx="1"/>
          </p:cNvCxnSpPr>
          <p:nvPr/>
        </p:nvCxnSpPr>
        <p:spPr>
          <a:xfrm>
            <a:off x="3203640" y="486900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40" name=""/>
          <p:cNvCxnSpPr>
            <a:stCxn id="238" idx="3"/>
            <a:endCxn id="241" idx="1"/>
          </p:cNvCxnSpPr>
          <p:nvPr/>
        </p:nvCxnSpPr>
        <p:spPr>
          <a:xfrm>
            <a:off x="3203640" y="486900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有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丟訊息給多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906560" y="4508640"/>
            <a:ext cx="1296720" cy="720720"/>
            <a:chOff x="1906560" y="4508640"/>
            <a:chExt cx="1296720" cy="720720"/>
          </a:xfrm>
        </p:grpSpPr>
        <p:sp>
          <p:nvSpPr>
            <p:cNvPr id="238" name=""/>
            <p:cNvSpPr/>
            <p:nvPr/>
          </p:nvSpPr>
          <p:spPr>
            <a:xfrm>
              <a:off x="1906560" y="450864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50920" y="465156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651640" y="2924280"/>
            <a:ext cx="1296720" cy="720720"/>
            <a:chOff x="5651640" y="2924280"/>
            <a:chExt cx="1296720" cy="720720"/>
          </a:xfrm>
        </p:grpSpPr>
        <p:sp>
          <p:nvSpPr>
            <p:cNvPr id="247" name=""/>
            <p:cNvSpPr/>
            <p:nvPr/>
          </p:nvSpPr>
          <p:spPr>
            <a:xfrm>
              <a:off x="5651640" y="29242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96000" y="30672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49" name=""/>
          <p:cNvCxnSpPr>
            <a:stCxn id="238" idx="3"/>
            <a:endCxn id="247" idx="1"/>
          </p:cNvCxnSpPr>
          <p:nvPr/>
        </p:nvCxnSpPr>
        <p:spPr>
          <a:xfrm flipV="1">
            <a:off x="3203640" y="328392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250" name=""/>
          <p:cNvGrpSpPr/>
          <p:nvPr/>
        </p:nvGrpSpPr>
        <p:grpSpPr>
          <a:xfrm>
            <a:off x="5653080" y="4003560"/>
            <a:ext cx="1296720" cy="720720"/>
            <a:chOff x="5653080" y="4003560"/>
            <a:chExt cx="1296720" cy="720720"/>
          </a:xfrm>
        </p:grpSpPr>
        <p:sp>
          <p:nvSpPr>
            <p:cNvPr id="251" name=""/>
            <p:cNvSpPr/>
            <p:nvPr/>
          </p:nvSpPr>
          <p:spPr>
            <a:xfrm>
              <a:off x="5653080" y="40035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97440" y="41464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653080" y="5011560"/>
            <a:ext cx="1296720" cy="720720"/>
            <a:chOff x="5653080" y="5011560"/>
            <a:chExt cx="1296720" cy="720720"/>
          </a:xfrm>
        </p:grpSpPr>
        <p:sp>
          <p:nvSpPr>
            <p:cNvPr id="239" name=""/>
            <p:cNvSpPr/>
            <p:nvPr/>
          </p:nvSpPr>
          <p:spPr>
            <a:xfrm>
              <a:off x="5653080" y="50115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97440" y="51544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653080" y="6019920"/>
            <a:ext cx="1296720" cy="720720"/>
            <a:chOff x="5653080" y="6019920"/>
            <a:chExt cx="1296720" cy="720720"/>
          </a:xfrm>
        </p:grpSpPr>
        <p:sp>
          <p:nvSpPr>
            <p:cNvPr id="241" name=""/>
            <p:cNvSpPr/>
            <p:nvPr/>
          </p:nvSpPr>
          <p:spPr>
            <a:xfrm>
              <a:off x="5653080" y="60199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97440" y="61628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57" name=""/>
          <p:cNvCxnSpPr>
            <a:stCxn id="238" idx="3"/>
            <a:endCxn id="251" idx="1"/>
          </p:cNvCxnSpPr>
          <p:nvPr/>
        </p:nvCxnSpPr>
        <p:spPr>
          <a:xfrm flipV="1">
            <a:off x="3203640" y="4363200"/>
            <a:ext cx="2449800" cy="5058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58" name=""/>
          <p:cNvSpPr/>
          <p:nvPr/>
        </p:nvSpPr>
        <p:spPr>
          <a:xfrm>
            <a:off x="3059280" y="472428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3333 -0.00185 L 0.13333 -0.23148 L 0.26667 -0.23148 E">
                                      <p:cBhvr>
                                        <p:cTn id="27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96296E-006 L 0.13472 2.96296E-006 L 0.13472 -0.07407 L 0.26806 -0.07407 E">
                                      <p:cBhvr>
                                        <p:cTn id="30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3472 2.96296E-006 L 0.13472 0.07222 L 0.26667 0.07222 E">
                                      <p:cBhvr>
                                        <p:cTn id="33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0.13333 1.11111E-006 L 0.13333 0.22037 L 0.26944 0.22037 E">
                                      <p:cBhvr>
                                        <p:cTn id="36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9" name=""/>
          <p:cNvCxnSpPr>
            <a:stCxn id="260" idx="3"/>
            <a:endCxn id="261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62" name=""/>
          <p:cNvCxnSpPr>
            <a:stCxn id="260" idx="3"/>
            <a:endCxn id="263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64" name=""/>
          <p:cNvCxnSpPr>
            <a:stCxn id="260" idx="3"/>
            <a:endCxn id="265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也可以多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丟訊息給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260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271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73" name=""/>
          <p:cNvCxnSpPr>
            <a:stCxn id="260" idx="3"/>
            <a:endCxn id="271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263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265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261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45" dur="3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54" dur="3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63" dur="3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72" dur="3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時傳訊息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ctiv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87" idx="3"/>
            <a:endCxn id="288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89" name=""/>
          <p:cNvCxnSpPr>
            <a:stCxn id="287" idx="3"/>
            <a:endCxn id="290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91" name=""/>
          <p:cNvCxnSpPr>
            <a:stCxn id="287" idx="3"/>
            <a:endCxn id="292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293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287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296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98" name=""/>
          <p:cNvCxnSpPr>
            <a:stCxn id="287" idx="3"/>
            <a:endCxn id="296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290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292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288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83" dur="3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87" dur="3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91" dur="3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95" dur="3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ctiv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11" idx="3"/>
            <a:endCxn id="312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3" name=""/>
          <p:cNvCxnSpPr>
            <a:stCxn id="311" idx="3"/>
            <a:endCxn id="314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5" name=""/>
          <p:cNvCxnSpPr>
            <a:stCxn id="311" idx="3"/>
            <a:endCxn id="316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311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320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22" name=""/>
          <p:cNvCxnSpPr>
            <a:stCxn id="311" idx="3"/>
            <a:endCxn id="320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314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316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312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4653000"/>
            <a:ext cx="431640" cy="431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每個訊息做完運算後再傳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103" dur="3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107" dur="3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111" dur="3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115" dur="3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登入主機設定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環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登入主機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sh </a:t>
            </a:r>
            <a:r>
              <a:rPr b="0" lang="zh-TW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ymxx@140.129.162.1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輸入密碼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產生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public key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sh-keygen -t rs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一直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nter.....enter....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將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id_rsa.pub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更名為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authorized_keys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 .ssh/id_rsa.pub .ssh/authorized_key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設定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.conf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cho "MPD_SECRETWORD=${user}$$" &gt; ~/.mpd.conf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登入主機設定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環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更改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.mpd.conf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權限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chmod 600 .mpd.conf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設定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mpd.hosts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將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nodes IP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填入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for ((i=2;i&lt;=7;i++)); do echo "192.168.129.$i" &gt;&gt; mpd.hosts; don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設定路徑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export PATH=$PATH:/opt/mpich2/bi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測試路徑是正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which mpdbo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正常顯示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/opt/mpich2/bin/mpdbo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mkdir .ds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cp mpd.hosts .dsh/machines.li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dsh -a hostnam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啟動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啟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boot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，並開啟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7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boot -n 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測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否正常啟動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tra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ringtest 1000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釋放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allex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如何執行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平行程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啟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boot -n 4 [ -f machine_file 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n how many mpds to sta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f hostsfil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列出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tr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執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iexec -n 12 ./mpi/a.ou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結束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allexi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00000" y="974520"/>
            <a:ext cx="6416640" cy="10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如何使用載入／啟動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73720" y="2403000"/>
            <a:ext cx="5985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include &lt;stdio.h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include &lt;mpi.h&gt;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main (int argc, char **argv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Init(&amp;argc, &amp;argv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Comm_size (MPI_COMM_WORLD,  &amp;numprocs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Comm_rank (MPI_COMM_WORLD,  &amp;myid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Finalize(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turn 0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00000" y="2708280"/>
            <a:ext cx="223200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16000" y="3716280"/>
            <a:ext cx="266400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52000" y="3056760"/>
            <a:ext cx="30654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啟動該程式在多個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上的平行計算工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00000" y="5157720"/>
            <a:ext cx="2664000" cy="35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84840" y="5664960"/>
            <a:ext cx="14151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結束平行計算工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42920" y="4076640"/>
            <a:ext cx="5834160" cy="28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49680" y="3577320"/>
            <a:ext cx="3165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知參與平行計算的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數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nproc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042920" y="4365720"/>
            <a:ext cx="561672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48880" y="4801320"/>
            <a:ext cx="29955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知我是第幾個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 (myid) from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086C-C7CE-44A3-9629-CD457890AB23}" type="slidenum">
              <a:t>19</a:t>
            </a:fld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什麼是平行計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傳統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5640" y="3673440"/>
            <a:ext cx="76932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目標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自己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印出，並且將所有的參與活動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總數也印出，顯示出自己的主機名稱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#include &lt;stdio.h&g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#include &lt;mpi.h&g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ain (int argc, char **argv) {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int rank, size, len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char name[MPI_MAX_PROCESSOR_NAME]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Init(&amp;argc, &amp;argv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int myid, numprocs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總數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Comm_size(MPI_COMM_WORLD,&amp;numprocs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本身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node id / rank */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Comm_rank(MPI_COMM_WORLD,&amp;myid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本身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host name *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Get_processor_name(name, &amp;len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printf("This is machine %d of %d name = %s\n“, myid, numprocs, name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Se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I_Send ((void *)&amp;data, icount, DATA_TYPE, idest, itag, MPI_COMM_WORLD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_TYP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des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收受資料的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 id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tag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標籤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COMM_WORLD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Rec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cv( void *buf, int count, MPI_Datatype datatype, int source, int tag, MPI_Comm comm, MPI_Status *status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buf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_TYP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ourc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收受資料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 id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tag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標籤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COMM_WORLD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範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目標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自己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資訊送給下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122560" y="4437000"/>
            <a:ext cx="1296720" cy="720720"/>
            <a:chOff x="2122560" y="4437000"/>
            <a:chExt cx="1296720" cy="720720"/>
          </a:xfrm>
        </p:grpSpPr>
        <p:sp>
          <p:nvSpPr>
            <p:cNvPr id="367" name=""/>
            <p:cNvSpPr/>
            <p:nvPr/>
          </p:nvSpPr>
          <p:spPr>
            <a:xfrm>
              <a:off x="2122560" y="4437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66920" y="4579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867280" y="4437000"/>
            <a:ext cx="1296720" cy="720720"/>
            <a:chOff x="5867280" y="4437000"/>
            <a:chExt cx="1296720" cy="720720"/>
          </a:xfrm>
        </p:grpSpPr>
        <p:sp>
          <p:nvSpPr>
            <p:cNvPr id="370" name=""/>
            <p:cNvSpPr/>
            <p:nvPr/>
          </p:nvSpPr>
          <p:spPr>
            <a:xfrm>
              <a:off x="5867280" y="4437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11640" y="4579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72" name=""/>
          <p:cNvCxnSpPr>
            <a:stCxn id="367" idx="3"/>
            <a:endCxn id="370" idx="1"/>
          </p:cNvCxnSpPr>
          <p:nvPr/>
        </p:nvCxnSpPr>
        <p:spPr>
          <a:xfrm>
            <a:off x="3419280" y="4797000"/>
            <a:ext cx="244836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73" name=""/>
          <p:cNvGrpSpPr/>
          <p:nvPr/>
        </p:nvGrpSpPr>
        <p:grpSpPr>
          <a:xfrm>
            <a:off x="3995640" y="5950080"/>
            <a:ext cx="1296720" cy="720720"/>
            <a:chOff x="3995640" y="5950080"/>
            <a:chExt cx="1296720" cy="720720"/>
          </a:xfrm>
        </p:grpSpPr>
        <p:sp>
          <p:nvSpPr>
            <p:cNvPr id="374" name=""/>
            <p:cNvSpPr/>
            <p:nvPr/>
          </p:nvSpPr>
          <p:spPr>
            <a:xfrm>
              <a:off x="3995640" y="595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40000" y="609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76" name=""/>
          <p:cNvCxnSpPr>
            <a:stCxn id="367" idx="2"/>
            <a:endCxn id="374" idx="1"/>
          </p:cNvCxnSpPr>
          <p:nvPr/>
        </p:nvCxnSpPr>
        <p:spPr>
          <a:xfrm flipH="1" rot="16200000">
            <a:off x="2807280" y="5121720"/>
            <a:ext cx="1153440" cy="122472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77" name=""/>
          <p:cNvCxnSpPr>
            <a:stCxn id="370" idx="2"/>
            <a:endCxn id="374" idx="3"/>
          </p:cNvCxnSpPr>
          <p:nvPr/>
        </p:nvCxnSpPr>
        <p:spPr>
          <a:xfrm rot="5400000">
            <a:off x="5327640" y="5122080"/>
            <a:ext cx="1153440" cy="122472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2916360" y="458136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59640" y="458136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88000" y="609300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1111E-006 L 0.30139 0.00185 E">
                                      <p:cBhvr>
                                        <p:cTn id="198" dur="3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81481E-006 L -0.04028 0.05 L -0.04028 0.21667 L -0.17361 0.21667 E">
                                      <p:cBhvr>
                                        <p:cTn id="207" dur="3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-0.24444 -0.00185 L -0.24444 -0.17037 E">
                                      <p:cBhvr>
                                        <p:cTn id="216" dur="3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#include &lt;mpi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ain(int argc,char **argv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nt n, myrank, numproc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Status stat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Init(&amp;argc,&amp;arg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Comm_size(MPI_COMM_WORLD,&amp;numproc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Comm_rank(MPI_COMM_WORLD,&amp;myran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node 0 will send the first messag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 == 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n = myran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Send(&amp;n, 1, MPI_INT, 1, 99, MPI_COMM_WOR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dde %d]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gt;&gt; [Node %d]\n\n", myrank, n, myrank+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node 1 to node n-2 will send message to the next nod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&gt;0 &amp;&amp; myrank&lt;numprocs-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Recv(&amp;n, 1, MPI_INT, myrank-1, 99, MPI_COMM_WORLD, &amp;statu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ode %d] &lt;&lt;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[Node %d]\n", myrank, n, status.MPI_SOUR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n = myrank; MPI_Send(&amp;n, 1, MPI_INT, myrank+1, 99, MPI_COMM_WOR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dde %d]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gt;&gt; [Node %d]\n\n", myrank, n, myrank+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the final node n-1 will not send any message but receive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==numprocs-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Recv(&amp;n, 1, MPI_INT, myrank-1, 99, MPI_COMM_WORLD, &amp;statu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ode %d] &lt;&lt;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[Node %d]\n", myrank, n, status.MPI_SOUR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Finaliz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訊息傳送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，由，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統一印出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84" name=""/>
          <p:cNvCxnSpPr>
            <a:stCxn id="385" idx="3"/>
            <a:endCxn id="386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87" name=""/>
          <p:cNvCxnSpPr>
            <a:stCxn id="385" idx="3"/>
            <a:endCxn id="388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89" name=""/>
          <p:cNvCxnSpPr>
            <a:stCxn id="385" idx="3"/>
            <a:endCxn id="390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91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385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394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96" name=""/>
          <p:cNvCxnSpPr>
            <a:stCxn id="385" idx="3"/>
            <a:endCxn id="394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397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388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390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386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228" dur="3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237" dur="3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246" dur="3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9000"/>
                            </p:stCondLst>
                            <p:childTnLst>
                              <p:par>
                                <p:cTn id="2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9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9000"/>
                            </p:stCondLst>
                            <p:childTnLst>
                              <p:par>
                                <p:cTn id="2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255" dur="3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提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4870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ain(int argc, char **argv)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Node 0 will do the following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f(myrank == 0) 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receive messages from other nodes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…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cv(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other Nodes will do the following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f(myrank != 0) {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send node's rank to Node 0 *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Send(message, 20, MPI_CHAR, 0, 99, MPI_COMM_WORLD)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什麼是平行計算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續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程序切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多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CP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55640" y="4002120"/>
            <a:ext cx="79930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再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讓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接受來自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訊息，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訊息標上不同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tag (0, 1, 2...)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後傳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851280" y="4581360"/>
            <a:ext cx="1296720" cy="720720"/>
            <a:chOff x="3851280" y="4581360"/>
            <a:chExt cx="1296720" cy="720720"/>
          </a:xfrm>
        </p:grpSpPr>
        <p:sp>
          <p:nvSpPr>
            <p:cNvPr id="414" name=""/>
            <p:cNvSpPr/>
            <p:nvPr/>
          </p:nvSpPr>
          <p:spPr>
            <a:xfrm>
              <a:off x="385128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9564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6946920" y="4581360"/>
            <a:ext cx="1296720" cy="720720"/>
            <a:chOff x="6946920" y="4581360"/>
            <a:chExt cx="1296720" cy="720720"/>
          </a:xfrm>
        </p:grpSpPr>
        <p:sp>
          <p:nvSpPr>
            <p:cNvPr id="417" name=""/>
            <p:cNvSpPr/>
            <p:nvPr/>
          </p:nvSpPr>
          <p:spPr>
            <a:xfrm>
              <a:off x="694692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9128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419" name=""/>
          <p:cNvCxnSpPr>
            <a:stCxn id="414" idx="3"/>
            <a:endCxn id="417" idx="1"/>
          </p:cNvCxnSpPr>
          <p:nvPr/>
        </p:nvCxnSpPr>
        <p:spPr>
          <a:xfrm>
            <a:off x="5148360" y="4941360"/>
            <a:ext cx="179928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420" name=""/>
          <p:cNvGrpSpPr/>
          <p:nvPr/>
        </p:nvGrpSpPr>
        <p:grpSpPr>
          <a:xfrm>
            <a:off x="826920" y="4581360"/>
            <a:ext cx="1296720" cy="720720"/>
            <a:chOff x="826920" y="4581360"/>
            <a:chExt cx="1296720" cy="720720"/>
          </a:xfrm>
        </p:grpSpPr>
        <p:sp>
          <p:nvSpPr>
            <p:cNvPr id="421" name=""/>
            <p:cNvSpPr/>
            <p:nvPr/>
          </p:nvSpPr>
          <p:spPr>
            <a:xfrm>
              <a:off x="82692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7128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423" name=""/>
          <p:cNvCxnSpPr>
            <a:stCxn id="414" idx="1"/>
            <a:endCxn id="421" idx="3"/>
          </p:cNvCxnSpPr>
          <p:nvPr/>
        </p:nvCxnSpPr>
        <p:spPr>
          <a:xfrm rot="10800000">
            <a:off x="2123280" y="4941000"/>
            <a:ext cx="172800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424" name=""/>
          <p:cNvSpPr/>
          <p:nvPr/>
        </p:nvSpPr>
        <p:spPr>
          <a:xfrm>
            <a:off x="6804000" y="479736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979640" y="479736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7 L -0.19305 0.00023 E">
                                      <p:cBhvr>
                                        <p:cTn id="26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85185E-006 L 0.19027 0.00023 E">
                                      <p:cBhvr>
                                        <p:cTn id="276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提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ANY_SOURC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接收來自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訊息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ANY_TAG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接收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tag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Redu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duce ( void *sendbuf, void *recvbuf, int count, MPI_Datatype datatype, MPI_Op op, int root, MPI_Comm comm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endbuf   address of send buffer (choic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unt       number of elements in send buffer (integ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type  data type of elements of send buffer (hand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op            reduce operation (hand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root          rank of root process (integ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mm      communicator (handle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計算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1 + 2 + 3 + .... + 1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#include &lt;stdio.h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#include &lt;mpi.h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ain (int argc, char **argv) {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nt rank, size, i; int myid, numprocs; int myTotal = 0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nt Total = 0; MPI_Init(&amp;argc, &amp;argv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Comm_size(MPI_COMM_WORLD, &amp;numprocs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Comm_rank(MPI_COMM_WORLD, &amp;myid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for(i = 1; i &lt;= 100; i++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f((i % numprocs) == myid) {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yTotal += i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Reduce(&amp;myTotal, &amp;Total, 1, MPI_INT, MPI_SUM, 0,MPI_COMM_WORLD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f(myid==0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printf("Total = %d\n", Total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838080" y="2421000"/>
            <a:ext cx="531828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計算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Fibonacci number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從第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1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項加至第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項總合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Fibonacci numb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(n) = f(n - 1) + f(n - 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(0) = 1, f(1) = 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1, 1, 2, 3, 5, 8, ......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ca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Bcast ( void *buffer, int count, MPI_Datatype datatype, int root, MPI_Comm comm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buffer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unt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type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buffe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root          roo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d (rank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多少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mm  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(MPI_Comm comm 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comm     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通信域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為什麼需要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為了讓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步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只有當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都執行完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時，所以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才再繼續往下執行下面的程式碼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為什麼要平行計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簡省時間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解決大型問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即時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使用更多來自網路上的資源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使用大量「便宜」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PC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取代超級電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記憶體不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無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58920" y="393372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58920" y="42940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5892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58920" y="4654440"/>
            <a:ext cx="1871640" cy="432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900000" y="5445000"/>
            <a:ext cx="8064720" cy="1413000"/>
          </a:xfrm>
          <a:prstGeom prst="roundRect">
            <a:avLst>
              <a:gd name="adj" fmla="val 49028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為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root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負責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廣播出去，則有可能出現以下情形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順利比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先執行到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cast A=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送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還未執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  <a:ea typeface="標楷體"/>
              </a:rPr>
              <a:t>MPI_Bcast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=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已經執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print A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則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中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的結果就不會同步為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99564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9564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99564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99564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80400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0400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0400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80400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5892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5892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25892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9564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9564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9564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0400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80400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80400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0000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3708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45080" y="2565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700360" y="2781360"/>
            <a:ext cx="4608360" cy="1728720"/>
          </a:xfrm>
          <a:prstGeom prst="rightArrow">
            <a:avLst>
              <a:gd name="adj1" fmla="val 50000"/>
              <a:gd name="adj2" fmla="val 66644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目前正在執行的程式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0000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63708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445080" y="2925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0000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63708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445080" y="328464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90000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63708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445080" y="364500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90000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63708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445080" y="4005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0000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63708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445080" y="436572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0400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99564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5892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6836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250" autoRev="1" fill="hold"/>
                                        <p:tgtEl>
                                          <p:spTgt spid="4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250" autoRev="1" fill="hold"/>
                                        <p:tgtEl>
                                          <p:spTgt spid="4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250" autoRev="1" fill="hold"/>
                                        <p:tgtEl>
                                          <p:spTgt spid="4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2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250" autoRev="1" fill="hold"/>
                                        <p:tgtEl>
                                          <p:spTgt spid="4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250" autoRev="1" fill="hold"/>
                                        <p:tgtEl>
                                          <p:spTgt spid="4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250" autoRev="1" fill="hold"/>
                                        <p:tgtEl>
                                          <p:spTgt spid="4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000"/>
                            </p:stCondLst>
                            <p:childTnLst>
                              <p:par>
                                <p:cTn id="34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250" autoRev="1" fill="hold"/>
                                        <p:tgtEl>
                                          <p:spTgt spid="4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250" autoRev="1" fill="hold"/>
                                        <p:tgtEl>
                                          <p:spTgt spid="4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250" autoRev="1" fill="hold"/>
                                        <p:tgtEl>
                                          <p:spTgt spid="4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500"/>
                            </p:stCondLst>
                            <p:childTnLst>
                              <p:par>
                                <p:cTn id="35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9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9500"/>
                            </p:stCondLst>
                            <p:childTnLst>
                              <p:par>
                                <p:cTn id="36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250" autoRev="1" fill="hold"/>
                                        <p:tgtEl>
                                          <p:spTgt spid="4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250" autoRev="1" fill="hold"/>
                                        <p:tgtEl>
                                          <p:spTgt spid="4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250" autoRev="1" fill="hold"/>
                                        <p:tgtEl>
                                          <p:spTgt spid="4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250" autoRev="1" fill="hold"/>
                                        <p:tgtEl>
                                          <p:spTgt spid="4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250" autoRev="1" fill="hold"/>
                                        <p:tgtEl>
                                          <p:spTgt spid="4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2" dur="250" autoRev="1" fill="hold"/>
                                        <p:tgtEl>
                                          <p:spTgt spid="4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250" autoRev="1" fill="hold"/>
                                        <p:tgtEl>
                                          <p:spTgt spid="4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8500"/>
                            </p:stCondLst>
                            <p:childTnLst>
                              <p:par>
                                <p:cTn id="4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4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250" autoRev="1" fill="hold"/>
                                        <p:tgtEl>
                                          <p:spTgt spid="4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35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5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7" dur="250" autoRev="1" fill="hold"/>
                                        <p:tgtEl>
                                          <p:spTgt spid="4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有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258920" y="393372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258920" y="42940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25892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258920" y="4654440"/>
            <a:ext cx="1871640" cy="432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900000" y="5445000"/>
            <a:ext cx="8064720" cy="1413000"/>
          </a:xfrm>
          <a:prstGeom prst="roundRect">
            <a:avLst>
              <a:gd name="adj" fmla="val 49028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此時不管那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皆會在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arrier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等待，直至全部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執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arrier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時才會繼續往下執行程式碼，如此一來才可確保每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roo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已經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廣播出去，使每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的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都改為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99564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9564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99564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99564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80400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0400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80400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80400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5892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5892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25892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9564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9564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99564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0400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80400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0400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90000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63708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445080" y="2565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700360" y="2781360"/>
            <a:ext cx="4608360" cy="1728720"/>
          </a:xfrm>
          <a:prstGeom prst="rightArrow">
            <a:avLst>
              <a:gd name="adj1" fmla="val 50000"/>
              <a:gd name="adj2" fmla="val 66644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目前正在執行的程式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0000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63708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445080" y="2925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0000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63708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445080" y="328464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90000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63708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445080" y="364500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63708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445080" y="4005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000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63708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445080" y="436572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80400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25892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26836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9856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00544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81200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8" dur="250" autoRev="1" fill="hold"/>
                                        <p:tgtEl>
                                          <p:spTgt spid="5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250" autoRev="1" fill="hold"/>
                                        <p:tgtEl>
                                          <p:spTgt spid="5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250" autoRev="1" fill="hold"/>
                                        <p:tgtEl>
                                          <p:spTgt spid="5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500"/>
                            </p:stCondLst>
                            <p:childTnLst>
                              <p:par>
                                <p:cTn id="49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2" dur="250" autoRev="1" fill="hold"/>
                                        <p:tgtEl>
                                          <p:spTgt spid="5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250" autoRev="1" fill="hold"/>
                                        <p:tgtEl>
                                          <p:spTgt spid="5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250" autoRev="1" fill="hold"/>
                                        <p:tgtEl>
                                          <p:spTgt spid="5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70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7000"/>
                            </p:stCondLst>
                            <p:childTnLst>
                              <p:par>
                                <p:cTn id="51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2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5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8500"/>
                            </p:stCondLst>
                            <p:childTnLst>
                              <p:par>
                                <p:cTn id="5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50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9500"/>
                            </p:stCondLst>
                            <p:childTnLst>
                              <p:par>
                                <p:cTn id="52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250" autoRev="1" fill="hold"/>
                                        <p:tgtEl>
                                          <p:spTgt spid="5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2" dur="250" autoRev="1" fill="hold"/>
                                        <p:tgtEl>
                                          <p:spTgt spid="5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4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250" autoRev="1" fill="hold"/>
                                        <p:tgtEl>
                                          <p:spTgt spid="5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9" dur="250" autoRev="1" fill="hold"/>
                                        <p:tgtEl>
                                          <p:spTgt spid="5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5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9" dur="250" autoRev="1" fill="hold"/>
                                        <p:tgtEl>
                                          <p:spTgt spid="5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9" dur="250" autoRev="1" fill="hold"/>
                                        <p:tgtEl>
                                          <p:spTgt spid="5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8500"/>
                            </p:stCondLst>
                            <p:childTnLst>
                              <p:par>
                                <p:cTn id="57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9" dur="250" autoRev="1" fill="hold"/>
                                        <p:tgtEl>
                                          <p:spTgt spid="5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58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59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7" dur="250" autoRev="1" fill="hold"/>
                                        <p:tgtEl>
                                          <p:spTgt spid="5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0" dur="250" autoRev="1" fill="hold"/>
                                        <p:tgtEl>
                                          <p:spTgt spid="5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250" autoRev="1" fill="hold"/>
                                        <p:tgtEl>
                                          <p:spTgt spid="5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3500"/>
                            </p:stCondLst>
                            <p:childTnLst>
                              <p:par>
                                <p:cTn id="60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4500"/>
                            </p:stCondLst>
                            <p:childTnLst>
                              <p:par>
                                <p:cTn id="6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1" dur="250" autoRev="1" fill="hold"/>
                                        <p:tgtEl>
                                          <p:spTgt spid="5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4" dur="250" autoRev="1" fill="hold"/>
                                        <p:tgtEl>
                                          <p:spTgt spid="5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7" dur="250" autoRev="1" fill="hold"/>
                                        <p:tgtEl>
                                          <p:spTgt spid="5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範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#include &lt;stdio.h&gt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#include &lt;mpi.h&gt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ain (int argc, char **argv) {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i = 0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myid, numprocs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Init(&amp;argc, &amp;argv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Comm_size(MPI_COMM_WORLD, &amp;numprocs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Comm_rank(MPI_COMM_WORLD, &amp;myid)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這邊先印出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整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初始狀態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[Node %d] i = %d \n", myid, 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會要求使用者輸入一個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整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f (myid == 0) {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Please input a INT number &gt;&gt;"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scanf("%d", &amp;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會將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值設為使用者所輸入的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Bcast(&amp;i, 1, MPI_INT, 0, MPI_COMM_WORLD)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所有的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在此同步，以確認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已將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送給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*/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Barrier(MPI_COMM_WORLD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[Node %d] i = %d \n", myid, 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838080" y="4797360"/>
            <a:ext cx="76932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我們可以發現到第二行很明顯的不同，這就是前面介紹，不一定誰會先執行到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PRINT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指令，所以我在第四行才能輸入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0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然後底下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都被設為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0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rcRect l="0" t="0" r="20818" b="0"/>
          <a:stretch/>
        </p:blipFill>
        <p:spPr>
          <a:xfrm>
            <a:off x="755640" y="2292480"/>
            <a:ext cx="684072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設計注意事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CH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屬於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SIM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架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指令及資料量切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優：有助於平行運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Arial"/>
              </a:rPr>
              <a:t>缺：增加傳輸次數及傳輸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websit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trac.nchc.org.tw/grid/wiki/mpi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ail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wade@nchc.org.t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參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-unix.mcs.anl.gov/mpi/mpich1/docs.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http://www-unix.mcs.anl.gov/mpi/www/www3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http://www.mpi-forum.org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平行計算種類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Flynn's taxonom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多處理器架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3573360"/>
          <a:ext cx="7693200" cy="2946600"/>
        </p:xfrm>
        <a:graphic>
          <a:graphicData uri="http://schemas.openxmlformats.org/drawingml/2006/table">
            <a:tbl>
              <a:tblPr/>
              <a:tblGrid>
                <a:gridCol w="2365560"/>
                <a:gridCol w="2592360"/>
                <a:gridCol w="2735280"/>
              </a:tblGrid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單一程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gle Instruc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多程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e Instruc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單一資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gle 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S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S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7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多資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e 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M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M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0364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ingle Instruction, Single Data (SIS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非平行計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資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a = 1 + 1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48000" y="5516640"/>
            <a:ext cx="187164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 =  1  + 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48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7280" y="508644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0364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456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0400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Single Instruction, Multiple Data(SIM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資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 = b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, b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是二組陣列，則同一時間就可以計算完成。而不需要算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0]  =  b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[0]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再算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1]  = b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[1]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 + 1…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再算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n]  = b[n]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5516640"/>
            <a:ext cx="748980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 = b + 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6692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414972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0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56720" y="414972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4836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b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6764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35640" y="479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………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14560" y="3933720"/>
            <a:ext cx="6481800" cy="790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Single Instruction, Multiple Data(MIS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多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資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a = (2 + 3) + (2 - 3) + (2 * 3) + (2 / 3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+ 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400536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400536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63640" y="47991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328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-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*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229360"/>
            <a:ext cx="136872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/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48000" y="4797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47991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3640" y="4797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6453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76" idx="2"/>
            <a:endCxn id="186" idx="0"/>
          </p:cNvCxnSpPr>
          <p:nvPr/>
        </p:nvCxnSpPr>
        <p:spPr>
          <a:xfrm flipH="1" rot="16200000">
            <a:off x="2736000" y="4941000"/>
            <a:ext cx="720000" cy="230544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88" name=""/>
          <p:cNvCxnSpPr>
            <a:stCxn id="180" idx="2"/>
            <a:endCxn id="186" idx="0"/>
          </p:cNvCxnSpPr>
          <p:nvPr/>
        </p:nvCxnSpPr>
        <p:spPr>
          <a:xfrm flipH="1" rot="16200000">
            <a:off x="3528000" y="5733000"/>
            <a:ext cx="720000" cy="72144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89" name=""/>
          <p:cNvCxnSpPr>
            <a:stCxn id="181" idx="2"/>
            <a:endCxn id="186" idx="0"/>
          </p:cNvCxnSpPr>
          <p:nvPr/>
        </p:nvCxnSpPr>
        <p:spPr>
          <a:xfrm rot="5400000">
            <a:off x="4283640" y="5697360"/>
            <a:ext cx="720000" cy="79308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90" name=""/>
          <p:cNvCxnSpPr>
            <a:stCxn id="182" idx="2"/>
            <a:endCxn id="186" idx="0"/>
          </p:cNvCxnSpPr>
          <p:nvPr/>
        </p:nvCxnSpPr>
        <p:spPr>
          <a:xfrm rot="5400000">
            <a:off x="5039280" y="4941720"/>
            <a:ext cx="720000" cy="230436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191" name=""/>
          <p:cNvSpPr/>
          <p:nvPr/>
        </p:nvSpPr>
        <p:spPr>
          <a:xfrm>
            <a:off x="4033800" y="5805360"/>
            <a:ext cx="43200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480" y="834120"/>
            <a:ext cx="7986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Multiple Instruction, Multiple Data(MIM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程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資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 = (b + c) + (d - e) + (f * g)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, b, c, d, e, f, g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為陣列如果有三臺機器可分別執行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b + c)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、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d - e)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及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f * g)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則三個運算可同時進行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8920" y="378936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 + 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272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c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32000" y="3875040"/>
            <a:ext cx="57600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6548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d - 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0400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 * 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728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67280" y="6524640"/>
            <a:ext cx="1368360" cy="289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95" idx="2"/>
            <a:endCxn id="203" idx="0"/>
          </p:cNvCxnSpPr>
          <p:nvPr/>
        </p:nvCxnSpPr>
        <p:spPr>
          <a:xfrm flipH="1" rot="16200000">
            <a:off x="3060000" y="4833000"/>
            <a:ext cx="575280" cy="280872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05" name=""/>
          <p:cNvCxnSpPr>
            <a:stCxn id="199" idx="2"/>
            <a:endCxn id="203" idx="0"/>
          </p:cNvCxnSpPr>
          <p:nvPr/>
        </p:nvCxnSpPr>
        <p:spPr>
          <a:xfrm flipH="1" rot="16200000">
            <a:off x="4463280" y="6236280"/>
            <a:ext cx="575280" cy="216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06" name=""/>
          <p:cNvCxnSpPr>
            <a:stCxn id="200" idx="2"/>
            <a:endCxn id="203" idx="0"/>
          </p:cNvCxnSpPr>
          <p:nvPr/>
        </p:nvCxnSpPr>
        <p:spPr>
          <a:xfrm rot="5400000">
            <a:off x="5831640" y="4868640"/>
            <a:ext cx="575280" cy="273780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207" name=""/>
          <p:cNvSpPr/>
          <p:nvPr/>
        </p:nvSpPr>
        <p:spPr>
          <a:xfrm>
            <a:off x="4572000" y="6021360"/>
            <a:ext cx="360360" cy="300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58920" y="472428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272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c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4809960"/>
            <a:ext cx="57600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b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364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95640" y="379080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89440" y="3876840"/>
            <a:ext cx="576360" cy="417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e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68720" y="3876840"/>
            <a:ext cx="576360" cy="417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d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472608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89440" y="48117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e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68720" y="48117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d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00720" y="4367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30920" y="378936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2472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g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0400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30920" y="472428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2472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g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0400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f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3600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06:09:08Z</dcterms:created>
  <dc:creator>wsd</dc:creator>
  <dc:description/>
  <dc:language>en-US</dc:language>
  <cp:lastModifiedBy>wsd</cp:lastModifiedBy>
  <dcterms:modified xsi:type="dcterms:W3CDTF">2008-08-02T07:31:10Z</dcterms:modified>
  <cp:revision>31</cp:revision>
  <dc:subject/>
  <dc:title>投影片 1</dc:title>
</cp:coreProperties>
</file>