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27AE-DE72-4747-9E4F-00D53FD5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B22F-B44D-4B6D-9350-8691BD43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6CA0-E5B4-4F87-8D4F-F35214B7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7832-379E-4E8E-8D25-276E35B5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9645-0BC2-4335-BDAE-00BB0952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6B92-DC43-4335-B432-F26485F0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6169-3CDA-4601-A320-D8E18B23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54A5-1EEC-440B-9F04-F6C9CBB5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0BDD-D729-4520-843B-D6C96B5A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F7FB-32FC-48A3-BF5E-E072E561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3166-BC0E-486F-ACC5-6C834CE5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522B-9FAB-4471-8925-41BE7C4C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CE28-7B3E-444B-806D-F8799A1E191B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4120" y="3962520"/>
            <a:ext cx="3275280" cy="2863440"/>
            <a:chOff x="5334120" y="3962520"/>
            <a:chExt cx="3275280" cy="2863440"/>
          </a:xfrm>
        </p:grpSpPr>
        <p:grpSp>
          <p:nvGrpSpPr>
            <p:cNvPr id="42" name=""/>
            <p:cNvGrpSpPr/>
            <p:nvPr/>
          </p:nvGrpSpPr>
          <p:grpSpPr>
            <a:xfrm>
              <a:off x="6476760" y="3962520"/>
              <a:ext cx="1675440" cy="1736640"/>
              <a:chOff x="6476760" y="3962520"/>
              <a:chExt cx="1675440" cy="17366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6857280" y="3962520"/>
                <a:ext cx="1294920" cy="1492200"/>
                <a:chOff x="6857280" y="3962520"/>
                <a:chExt cx="1294920" cy="1492200"/>
              </a:xfrm>
            </p:grpSpPr>
            <p:pic>
              <p:nvPicPr>
                <p:cNvPr id="44" name="server_olivier_boyer_0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81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" name="server_olivier_boyer_0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572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6" name="server_olivier_boyer_01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67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" name=""/>
            <p:cNvGrpSpPr/>
            <p:nvPr/>
          </p:nvGrpSpPr>
          <p:grpSpPr>
            <a:xfrm>
              <a:off x="5334120" y="4647960"/>
              <a:ext cx="1675440" cy="1736640"/>
              <a:chOff x="5334120" y="4647960"/>
              <a:chExt cx="1675440" cy="17366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5714640" y="4647960"/>
                <a:ext cx="1294920" cy="1492200"/>
                <a:chOff x="5714640" y="4647960"/>
                <a:chExt cx="1294920" cy="1492200"/>
              </a:xfrm>
            </p:grpSpPr>
            <p:pic>
              <p:nvPicPr>
                <p:cNvPr id="49" name="server_olivier_boyer_0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955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server_olivier_boyer_0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7146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1" name="server_olivier_boyer_01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6933960" y="4403520"/>
              <a:ext cx="1675440" cy="1736640"/>
              <a:chOff x="6933960" y="4403520"/>
              <a:chExt cx="1675440" cy="173664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7314480" y="4403520"/>
                <a:ext cx="1294920" cy="1492200"/>
                <a:chOff x="7314480" y="4403520"/>
                <a:chExt cx="1294920" cy="1492200"/>
              </a:xfrm>
            </p:grpSpPr>
            <p:pic>
              <p:nvPicPr>
                <p:cNvPr id="54" name="server_olivier_boyer_0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953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server_olivier_boyer_0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3144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6" name="server_olivier_boyer_01" descr=""/>
              <p:cNvPicPr/>
              <p:nvPr/>
            </p:nvPicPr>
            <p:blipFill>
              <a:blip r:embed="rId9"/>
              <a:stretch/>
            </p:blipFill>
            <p:spPr>
              <a:xfrm>
                <a:off x="69339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" name=""/>
            <p:cNvGrpSpPr/>
            <p:nvPr/>
          </p:nvGrpSpPr>
          <p:grpSpPr>
            <a:xfrm>
              <a:off x="5790960" y="5089320"/>
              <a:ext cx="1675440" cy="1736640"/>
              <a:chOff x="5790960" y="5089320"/>
              <a:chExt cx="1675440" cy="173664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6171480" y="5089320"/>
                <a:ext cx="1294920" cy="1492200"/>
                <a:chOff x="6171480" y="5089320"/>
                <a:chExt cx="1294920" cy="1492200"/>
              </a:xfrm>
            </p:grpSpPr>
            <p:pic>
              <p:nvPicPr>
                <p:cNvPr id="59" name="server_olivier_boyer_0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5523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server_olivier_boyer_0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1714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1" name="server_olivier_boyer_01" descr=""/>
              <p:cNvPicPr/>
              <p:nvPr/>
            </p:nvPicPr>
            <p:blipFill>
              <a:blip r:embed="rId12"/>
              <a:stretch/>
            </p:blipFill>
            <p:spPr>
              <a:xfrm>
                <a:off x="57909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" name=""/>
          <p:cNvSpPr/>
          <p:nvPr/>
        </p:nvSpPr>
        <p:spPr>
          <a:xfrm>
            <a:off x="53341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A @ HsinC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3962520"/>
            <a:ext cx="3275280" cy="2863440"/>
            <a:chOff x="533520" y="3962520"/>
            <a:chExt cx="3275280" cy="2863440"/>
          </a:xfrm>
        </p:grpSpPr>
        <p:grpSp>
          <p:nvGrpSpPr>
            <p:cNvPr id="64" name=""/>
            <p:cNvGrpSpPr/>
            <p:nvPr/>
          </p:nvGrpSpPr>
          <p:grpSpPr>
            <a:xfrm>
              <a:off x="1676160" y="3962520"/>
              <a:ext cx="1675440" cy="1736640"/>
              <a:chOff x="1676160" y="3962520"/>
              <a:chExt cx="1675440" cy="1736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2056680" y="3962520"/>
                <a:ext cx="1294920" cy="1492200"/>
                <a:chOff x="2056680" y="3962520"/>
                <a:chExt cx="1294920" cy="1492200"/>
              </a:xfrm>
            </p:grpSpPr>
            <p:pic>
              <p:nvPicPr>
                <p:cNvPr id="66" name="server_olivier_boyer_01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4375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server_olivier_boyer_0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0566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8" name="server_olivier_boyer_01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761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533520" y="4647960"/>
              <a:ext cx="1675440" cy="1736640"/>
              <a:chOff x="533520" y="4647960"/>
              <a:chExt cx="1675440" cy="1736640"/>
            </a:xfrm>
          </p:grpSpPr>
          <p:grpSp>
            <p:nvGrpSpPr>
              <p:cNvPr id="70" name=""/>
              <p:cNvGrpSpPr/>
              <p:nvPr/>
            </p:nvGrpSpPr>
            <p:grpSpPr>
              <a:xfrm>
                <a:off x="914040" y="4647960"/>
                <a:ext cx="1294920" cy="1492200"/>
                <a:chOff x="914040" y="4647960"/>
                <a:chExt cx="1294920" cy="1492200"/>
              </a:xfrm>
            </p:grpSpPr>
            <p:pic>
              <p:nvPicPr>
                <p:cNvPr id="71" name="server_olivier_boyer_01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2949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server_olivier_boyer_01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9140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3" name="server_olivier_boyer_01" descr=""/>
              <p:cNvPicPr/>
              <p:nvPr/>
            </p:nvPicPr>
            <p:blipFill>
              <a:blip r:embed="rId18"/>
              <a:stretch/>
            </p:blipFill>
            <p:spPr>
              <a:xfrm>
                <a:off x="5335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"/>
            <p:cNvGrpSpPr/>
            <p:nvPr/>
          </p:nvGrpSpPr>
          <p:grpSpPr>
            <a:xfrm>
              <a:off x="2133360" y="4403520"/>
              <a:ext cx="1675440" cy="1736640"/>
              <a:chOff x="2133360" y="4403520"/>
              <a:chExt cx="1675440" cy="173664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2513880" y="4403520"/>
                <a:ext cx="1294920" cy="1492200"/>
                <a:chOff x="2513880" y="4403520"/>
                <a:chExt cx="1294920" cy="1492200"/>
              </a:xfrm>
            </p:grpSpPr>
            <p:pic>
              <p:nvPicPr>
                <p:cNvPr id="76" name="server_olivier_boyer_01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8947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server_olivier_boyer_01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5138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8" name="server_olivier_boyer_01" descr=""/>
              <p:cNvPicPr/>
              <p:nvPr/>
            </p:nvPicPr>
            <p:blipFill>
              <a:blip r:embed="rId21"/>
              <a:stretch/>
            </p:blipFill>
            <p:spPr>
              <a:xfrm>
                <a:off x="21333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" name=""/>
            <p:cNvGrpSpPr/>
            <p:nvPr/>
          </p:nvGrpSpPr>
          <p:grpSpPr>
            <a:xfrm>
              <a:off x="990360" y="5089320"/>
              <a:ext cx="1675440" cy="1736640"/>
              <a:chOff x="990360" y="5089320"/>
              <a:chExt cx="1675440" cy="173664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1370880" y="5089320"/>
                <a:ext cx="1294920" cy="1492200"/>
                <a:chOff x="1370880" y="5089320"/>
                <a:chExt cx="1294920" cy="1492200"/>
              </a:xfrm>
            </p:grpSpPr>
            <p:pic>
              <p:nvPicPr>
                <p:cNvPr id="81" name="server_olivier_boyer_01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17517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server_olivier_boyer_01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3708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83" name="server_olivier_boyer_01" descr=""/>
              <p:cNvPicPr/>
              <p:nvPr/>
            </p:nvPicPr>
            <p:blipFill>
              <a:blip r:embed="rId24"/>
              <a:stretch/>
            </p:blipFill>
            <p:spPr>
              <a:xfrm>
                <a:off x="9903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4" name=""/>
          <p:cNvSpPr/>
          <p:nvPr/>
        </p:nvSpPr>
        <p:spPr>
          <a:xfrm>
            <a:off x="5335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B @ Tai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352680" y="762120"/>
            <a:ext cx="2514600" cy="1949400"/>
            <a:chOff x="3352680" y="762120"/>
            <a:chExt cx="2514600" cy="1949400"/>
          </a:xfrm>
        </p:grpSpPr>
        <p:grpSp>
          <p:nvGrpSpPr>
            <p:cNvPr id="86" name=""/>
            <p:cNvGrpSpPr/>
            <p:nvPr/>
          </p:nvGrpSpPr>
          <p:grpSpPr>
            <a:xfrm>
              <a:off x="3352680" y="762120"/>
              <a:ext cx="1675440" cy="1736640"/>
              <a:chOff x="3352680" y="762120"/>
              <a:chExt cx="1675440" cy="173664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3733200" y="762120"/>
                <a:ext cx="1294920" cy="1492200"/>
                <a:chOff x="3733200" y="762120"/>
                <a:chExt cx="1294920" cy="1492200"/>
              </a:xfrm>
            </p:grpSpPr>
            <p:pic>
              <p:nvPicPr>
                <p:cNvPr id="88" name="server_olivier_boyer_0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4114080" y="7621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server_olivier_boyer_01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3733200" y="9748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0" name="server_olivier_boyer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3352680" y="12193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" name=""/>
            <p:cNvGrpSpPr/>
            <p:nvPr/>
          </p:nvGrpSpPr>
          <p:grpSpPr>
            <a:xfrm>
              <a:off x="4190760" y="974880"/>
              <a:ext cx="1676520" cy="1736640"/>
              <a:chOff x="4190760" y="974880"/>
              <a:chExt cx="1676520" cy="173664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4571640" y="974880"/>
                <a:ext cx="1295640" cy="1492200"/>
                <a:chOff x="4571640" y="974880"/>
                <a:chExt cx="1295640" cy="1492200"/>
              </a:xfrm>
            </p:grpSpPr>
            <p:pic>
              <p:nvPicPr>
                <p:cNvPr id="93" name="server_olivier_boyer_0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4952880" y="9748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server_olivier_boyer_01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4571640" y="118764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5" name="server_olivier_boyer_01" descr=""/>
              <p:cNvPicPr/>
              <p:nvPr/>
            </p:nvPicPr>
            <p:blipFill>
              <a:blip r:embed="rId30"/>
              <a:stretch/>
            </p:blipFill>
            <p:spPr>
              <a:xfrm>
                <a:off x="4190760" y="1432080"/>
                <a:ext cx="91440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6" name=""/>
          <p:cNvSpPr/>
          <p:nvPr/>
        </p:nvSpPr>
        <p:spPr>
          <a:xfrm>
            <a:off x="3200400" y="76320"/>
            <a:ext cx="2666880" cy="7617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d 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Service 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4114800"/>
            <a:ext cx="8076600" cy="2133360"/>
            <a:chOff x="533520" y="4114800"/>
            <a:chExt cx="8076600" cy="2133360"/>
          </a:xfrm>
        </p:grpSpPr>
        <p:grpSp>
          <p:nvGrpSpPr>
            <p:cNvPr id="98" name=""/>
            <p:cNvGrpSpPr/>
            <p:nvPr/>
          </p:nvGrpSpPr>
          <p:grpSpPr>
            <a:xfrm>
              <a:off x="5334120" y="4114800"/>
              <a:ext cx="3276000" cy="2133360"/>
              <a:chOff x="5334120" y="4114800"/>
              <a:chExt cx="3276000" cy="2133360"/>
            </a:xfrm>
          </p:grpSpPr>
          <p:sp>
            <p:nvSpPr>
              <p:cNvPr id="99" name=""/>
              <p:cNvSpPr/>
              <p:nvPr/>
            </p:nvSpPr>
            <p:spPr>
              <a:xfrm>
                <a:off x="53341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3341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1103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341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341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341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341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3341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33520" y="4114800"/>
              <a:ext cx="3276000" cy="2133360"/>
              <a:chOff x="533520" y="4114800"/>
              <a:chExt cx="3276000" cy="2133360"/>
            </a:xfrm>
          </p:grpSpPr>
          <p:sp>
            <p:nvSpPr>
              <p:cNvPr id="108" name=""/>
              <p:cNvSpPr/>
              <p:nvPr/>
            </p:nvSpPr>
            <p:spPr>
              <a:xfrm>
                <a:off x="5335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335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3097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335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35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35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35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335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2209680" y="1981080"/>
            <a:ext cx="4647960" cy="3276360"/>
            <a:chOff x="2209680" y="1981080"/>
            <a:chExt cx="4647960" cy="3276360"/>
          </a:xfrm>
        </p:grpSpPr>
        <p:sp>
          <p:nvSpPr>
            <p:cNvPr id="117" name=""/>
            <p:cNvSpPr/>
            <p:nvPr/>
          </p:nvSpPr>
          <p:spPr>
            <a:xfrm>
              <a:off x="2209680" y="478980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ardw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09680" y="338544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DRBL / Clonezil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9680" y="3853080"/>
              <a:ext cx="212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Kerrigh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09680" y="3853080"/>
              <a:ext cx="25200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PF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9680" y="432144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inux Ker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291708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9680" y="244872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-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09680" y="198108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ne Dominant Index (GD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5334120" y="3962520"/>
              <a:ext cx="3275280" cy="2863440"/>
              <a:chOff x="5334120" y="3962520"/>
              <a:chExt cx="3275280" cy="286344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6476760" y="3962520"/>
                <a:ext cx="1675440" cy="1736640"/>
                <a:chOff x="6476760" y="3962520"/>
                <a:chExt cx="1675440" cy="173664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6857280" y="3962520"/>
                  <a:ext cx="1294920" cy="1492200"/>
                  <a:chOff x="6857280" y="3962520"/>
                  <a:chExt cx="1294920" cy="1492200"/>
                </a:xfrm>
              </p:grpSpPr>
              <p:pic>
                <p:nvPicPr>
                  <p:cNvPr id="130" name="server_olivier_boyer_0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2381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1" name="server_olivier_boyer_0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72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2" name="server_olivier_boyer_0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4767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3" name=""/>
              <p:cNvGrpSpPr/>
              <p:nvPr/>
            </p:nvGrpSpPr>
            <p:grpSpPr>
              <a:xfrm>
                <a:off x="5334120" y="4647960"/>
                <a:ext cx="1675440" cy="1736640"/>
                <a:chOff x="5334120" y="4647960"/>
                <a:chExt cx="1675440" cy="173664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5714640" y="4647960"/>
                  <a:ext cx="1294920" cy="1492200"/>
                  <a:chOff x="5714640" y="4647960"/>
                  <a:chExt cx="1294920" cy="1492200"/>
                </a:xfrm>
              </p:grpSpPr>
              <p:pic>
                <p:nvPicPr>
                  <p:cNvPr id="135" name="server_olivier_boyer_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5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6" name="server_olivier_boyer_0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46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7" name="server_olivier_boyer_0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3341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8" name=""/>
              <p:cNvGrpSpPr/>
              <p:nvPr/>
            </p:nvGrpSpPr>
            <p:grpSpPr>
              <a:xfrm>
                <a:off x="6933960" y="4403520"/>
                <a:ext cx="1675440" cy="1736640"/>
                <a:chOff x="6933960" y="4403520"/>
                <a:chExt cx="1675440" cy="1736640"/>
              </a:xfrm>
            </p:grpSpPr>
            <p:grpSp>
              <p:nvGrpSpPr>
                <p:cNvPr id="139" name=""/>
                <p:cNvGrpSpPr/>
                <p:nvPr/>
              </p:nvGrpSpPr>
              <p:grpSpPr>
                <a:xfrm>
                  <a:off x="7314480" y="4403520"/>
                  <a:ext cx="1294920" cy="1492200"/>
                  <a:chOff x="7314480" y="4403520"/>
                  <a:chExt cx="1294920" cy="1492200"/>
                </a:xfrm>
              </p:grpSpPr>
              <p:pic>
                <p:nvPicPr>
                  <p:cNvPr id="140" name="server_olivier_boyer_0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953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1" name="server_olivier_boyer_0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44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2" name="server_olivier_boyer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9339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3" name=""/>
              <p:cNvGrpSpPr/>
              <p:nvPr/>
            </p:nvGrpSpPr>
            <p:grpSpPr>
              <a:xfrm>
                <a:off x="5790960" y="5089320"/>
                <a:ext cx="1675440" cy="1736640"/>
                <a:chOff x="5790960" y="5089320"/>
                <a:chExt cx="1675440" cy="173664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6171480" y="5089320"/>
                  <a:ext cx="1294920" cy="1492200"/>
                  <a:chOff x="6171480" y="5089320"/>
                  <a:chExt cx="1294920" cy="1492200"/>
                </a:xfrm>
              </p:grpSpPr>
              <p:pic>
                <p:nvPicPr>
                  <p:cNvPr id="145" name="server_olivier_boyer_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23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6" name="server_olivier_boyer_0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714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7" name="server_olivier_boyer_01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7909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8" name=""/>
            <p:cNvSpPr/>
            <p:nvPr/>
          </p:nvSpPr>
          <p:spPr>
            <a:xfrm>
              <a:off x="53341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A @ HsinCh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33520" y="3962520"/>
              <a:ext cx="3275280" cy="2863440"/>
              <a:chOff x="533520" y="3962520"/>
              <a:chExt cx="3275280" cy="286344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676160" y="3962520"/>
                <a:ext cx="1675440" cy="1736640"/>
                <a:chOff x="1676160" y="3962520"/>
                <a:chExt cx="1675440" cy="1736640"/>
              </a:xfrm>
            </p:grpSpPr>
            <p:grpSp>
              <p:nvGrpSpPr>
                <p:cNvPr id="151" name=""/>
                <p:cNvGrpSpPr/>
                <p:nvPr/>
              </p:nvGrpSpPr>
              <p:grpSpPr>
                <a:xfrm>
                  <a:off x="2056680" y="3962520"/>
                  <a:ext cx="1294920" cy="1492200"/>
                  <a:chOff x="2056680" y="3962520"/>
                  <a:chExt cx="1294920" cy="1492200"/>
                </a:xfrm>
              </p:grpSpPr>
              <p:pic>
                <p:nvPicPr>
                  <p:cNvPr id="152" name="server_olivier_boyer_0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375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3" name="server_olivier_boyer_0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66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4" name="server_olivier_boyer_0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6761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5" name=""/>
              <p:cNvGrpSpPr/>
              <p:nvPr/>
            </p:nvGrpSpPr>
            <p:grpSpPr>
              <a:xfrm>
                <a:off x="533520" y="4647960"/>
                <a:ext cx="1675440" cy="1736640"/>
                <a:chOff x="533520" y="4647960"/>
                <a:chExt cx="1675440" cy="173664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914040" y="4647960"/>
                  <a:ext cx="1294920" cy="1492200"/>
                  <a:chOff x="914040" y="4647960"/>
                  <a:chExt cx="1294920" cy="1492200"/>
                </a:xfrm>
              </p:grpSpPr>
              <p:pic>
                <p:nvPicPr>
                  <p:cNvPr id="157" name="server_olivier_boyer_0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49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8" name="server_olivier_boyer_0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140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9" name="server_olivier_boyer_01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5335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0" name=""/>
              <p:cNvGrpSpPr/>
              <p:nvPr/>
            </p:nvGrpSpPr>
            <p:grpSpPr>
              <a:xfrm>
                <a:off x="2133360" y="4403520"/>
                <a:ext cx="1675440" cy="1736640"/>
                <a:chOff x="2133360" y="4403520"/>
                <a:chExt cx="1675440" cy="173664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513880" y="4403520"/>
                  <a:ext cx="1294920" cy="1492200"/>
                  <a:chOff x="2513880" y="4403520"/>
                  <a:chExt cx="1294920" cy="1492200"/>
                </a:xfrm>
              </p:grpSpPr>
              <p:pic>
                <p:nvPicPr>
                  <p:cNvPr id="162" name="server_olivier_boyer_0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947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3" name="server_olivier_boyer_0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138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4" name="server_olivier_boyer_01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21333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5" name=""/>
              <p:cNvGrpSpPr/>
              <p:nvPr/>
            </p:nvGrpSpPr>
            <p:grpSpPr>
              <a:xfrm>
                <a:off x="990360" y="5089320"/>
                <a:ext cx="1675440" cy="1736640"/>
                <a:chOff x="990360" y="5089320"/>
                <a:chExt cx="1675440" cy="173664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1370880" y="5089320"/>
                  <a:ext cx="1294920" cy="1492200"/>
                  <a:chOff x="1370880" y="5089320"/>
                  <a:chExt cx="1294920" cy="1492200"/>
                </a:xfrm>
              </p:grpSpPr>
              <p:pic>
                <p:nvPicPr>
                  <p:cNvPr id="167" name="server_olivier_boyer_0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7517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8" name="server_olivier_boyer_0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3708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9" name="server_olivier_boyer_0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9903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70" name=""/>
            <p:cNvSpPr/>
            <p:nvPr/>
          </p:nvSpPr>
          <p:spPr>
            <a:xfrm>
              <a:off x="5335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B @ TaiCh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3352680" y="762120"/>
              <a:ext cx="2514600" cy="1949400"/>
              <a:chOff x="3352680" y="762120"/>
              <a:chExt cx="2514600" cy="194940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3352680" y="762120"/>
                <a:ext cx="1675440" cy="1736640"/>
                <a:chOff x="3352680" y="762120"/>
                <a:chExt cx="1675440" cy="173664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3733200" y="762120"/>
                  <a:ext cx="1294920" cy="1492200"/>
                  <a:chOff x="3733200" y="762120"/>
                  <a:chExt cx="1294920" cy="1492200"/>
                </a:xfrm>
              </p:grpSpPr>
              <p:pic>
                <p:nvPicPr>
                  <p:cNvPr id="174" name="server_olivier_boyer_0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114080" y="7621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5" name="server_olivier_boyer_0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33200" y="9748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76" name="server_olivier_boyer_01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3352680" y="121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7" name=""/>
              <p:cNvGrpSpPr/>
              <p:nvPr/>
            </p:nvGrpSpPr>
            <p:grpSpPr>
              <a:xfrm>
                <a:off x="4190760" y="974880"/>
                <a:ext cx="1676520" cy="1736640"/>
                <a:chOff x="4190760" y="974880"/>
                <a:chExt cx="1676520" cy="17366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4571640" y="974880"/>
                  <a:ext cx="1295640" cy="1492200"/>
                  <a:chOff x="4571640" y="974880"/>
                  <a:chExt cx="1295640" cy="1492200"/>
                </a:xfrm>
              </p:grpSpPr>
              <p:pic>
                <p:nvPicPr>
                  <p:cNvPr id="179" name="server_olivier_boyer_0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52880" y="97488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0" name="server_olivier_boyer_01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571640" y="118764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81" name="server_olivier_boyer_01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4190760" y="14320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2" name=""/>
            <p:cNvSpPr/>
            <p:nvPr/>
          </p:nvSpPr>
          <p:spPr>
            <a:xfrm>
              <a:off x="3200400" y="76320"/>
              <a:ext cx="2666880" cy="761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oad Balanc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b Service Fa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520" y="2438280"/>
              <a:ext cx="8076960" cy="167652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0" bIns="360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Hadoop Distributed File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480" y="2971800"/>
              <a:ext cx="784872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MapReduce 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520" y="2057400"/>
              <a:ext cx="8076960" cy="38088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Object Database - Hyper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520" y="1676520"/>
              <a:ext cx="8076960" cy="3808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rvice-Oriented Architecture (SO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480" y="3352680"/>
              <a:ext cx="83844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7652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195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308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201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7652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5308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2193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2437920" y="289548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88" idx="0"/>
              <a:endCxn id="193" idx="2"/>
            </p:cNvCxnSpPr>
            <p:nvPr/>
          </p:nvCxnSpPr>
          <p:spPr>
            <a:xfrm flipV="1">
              <a:off x="213336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91" idx="0"/>
              <a:endCxn id="194" idx="2"/>
            </p:cNvCxnSpPr>
            <p:nvPr/>
          </p:nvCxnSpPr>
          <p:spPr>
            <a:xfrm flipV="1">
              <a:off x="700992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 flipV="1">
              <a:off x="60199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7162920" y="289548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520" y="1295280"/>
              <a:ext cx="8076960" cy="38124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Web Application Framework - Ruby on Rails (R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13372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01028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33520" y="4114800"/>
              <a:ext cx="8076600" cy="2133360"/>
              <a:chOff x="533520" y="4114800"/>
              <a:chExt cx="8076600" cy="2133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5334120" y="4114800"/>
                <a:ext cx="3276000" cy="2133360"/>
                <a:chOff x="5334120" y="4114800"/>
                <a:chExt cx="3276000" cy="21333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3341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3341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1103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3341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3341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3341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3341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3341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533520" y="4114800"/>
                <a:ext cx="3276000" cy="2133360"/>
                <a:chOff x="533520" y="4114800"/>
                <a:chExt cx="3276000" cy="21333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5335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335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3097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335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335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335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335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335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1:27:16Z</dcterms:created>
  <dc:creator>Human</dc:creator>
  <dc:description/>
  <dc:language>en-US</dc:language>
  <cp:lastModifiedBy>Human</cp:lastModifiedBy>
  <dcterms:modified xsi:type="dcterms:W3CDTF">2008-03-31T07:10:31Z</dcterms:modified>
  <cp:revision>12</cp:revision>
  <dc:subject/>
  <dc:title>PowerPoint 簡報</dc:title>
</cp:coreProperties>
</file>