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55B-A0FF-45F2-955E-8A7EEA05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A25-4628-476F-BE55-442D762B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466-053C-48D3-9F55-8504A5CB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050-26FD-456C-AB98-60D8B5F6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6AB-C8F3-4D75-8B9E-11163ADF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DADD-E616-40DD-98BA-B72A1617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3268-783F-484C-979E-2D93D7CE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FA3-3AA9-4A34-9852-607A3DD6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656-070A-458F-8EF7-51BE87DD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65F1-C9BE-490B-94D6-D572C58C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C70-B2EC-407B-8E3E-BFE700D0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766-6C77-4ACA-A621-60A601C7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3F35-0CB9-4500-AF3D-829954F945B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4120" y="3962520"/>
            <a:ext cx="3275280" cy="2863440"/>
            <a:chOff x="5334120" y="3962520"/>
            <a:chExt cx="3275280" cy="2863440"/>
          </a:xfrm>
        </p:grpSpPr>
        <p:grpSp>
          <p:nvGrpSpPr>
            <p:cNvPr id="42" name=""/>
            <p:cNvGrpSpPr/>
            <p:nvPr/>
          </p:nvGrpSpPr>
          <p:grpSpPr>
            <a:xfrm>
              <a:off x="6476760" y="3962520"/>
              <a:ext cx="1675440" cy="1736640"/>
              <a:chOff x="6476760" y="3962520"/>
              <a:chExt cx="1675440" cy="17366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6857280" y="3962520"/>
                <a:ext cx="1294920" cy="1492200"/>
                <a:chOff x="6857280" y="3962520"/>
                <a:chExt cx="1294920" cy="1492200"/>
              </a:xfrm>
            </p:grpSpPr>
            <p:pic>
              <p:nvPicPr>
                <p:cNvPr id="44" name="server_olivier_boyer_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81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server_olivier_boyer_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72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server_olivier_boyer_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7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334120" y="4647960"/>
              <a:ext cx="1675440" cy="1736640"/>
              <a:chOff x="5334120" y="4647960"/>
              <a:chExt cx="1675440" cy="1736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714640" y="4647960"/>
                <a:ext cx="1294920" cy="1492200"/>
                <a:chOff x="5714640" y="4647960"/>
                <a:chExt cx="1294920" cy="1492200"/>
              </a:xfrm>
            </p:grpSpPr>
            <p:pic>
              <p:nvPicPr>
                <p:cNvPr id="49" name="server_olivier_boyer_0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955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server_olivier_boyer_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46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" name="server_olivier_boyer_0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933960" y="4403520"/>
              <a:ext cx="1675440" cy="1736640"/>
              <a:chOff x="6933960" y="4403520"/>
              <a:chExt cx="1675440" cy="17366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7314480" y="4403520"/>
                <a:ext cx="1294920" cy="1492200"/>
                <a:chOff x="7314480" y="4403520"/>
                <a:chExt cx="1294920" cy="1492200"/>
              </a:xfrm>
            </p:grpSpPr>
            <p:pic>
              <p:nvPicPr>
                <p:cNvPr id="54" name="server_olivier_boyer_0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953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server_olivier_boyer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144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6" name="server_olivier_boyer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69339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790960" y="5089320"/>
              <a:ext cx="1675440" cy="1736640"/>
              <a:chOff x="5790960" y="5089320"/>
              <a:chExt cx="1675440" cy="173664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171480" y="5089320"/>
                <a:ext cx="1294920" cy="1492200"/>
                <a:chOff x="6171480" y="5089320"/>
                <a:chExt cx="1294920" cy="1492200"/>
              </a:xfrm>
            </p:grpSpPr>
            <p:pic>
              <p:nvPicPr>
                <p:cNvPr id="59" name="server_olivier_boyer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523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server_olivier_boyer_0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714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1" name="server_olivier_boyer_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909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53341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A @ Hsin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3962520"/>
            <a:ext cx="3275280" cy="2863440"/>
            <a:chOff x="533520" y="3962520"/>
            <a:chExt cx="3275280" cy="2863440"/>
          </a:xfrm>
        </p:grpSpPr>
        <p:grpSp>
          <p:nvGrpSpPr>
            <p:cNvPr id="64" name=""/>
            <p:cNvGrpSpPr/>
            <p:nvPr/>
          </p:nvGrpSpPr>
          <p:grpSpPr>
            <a:xfrm>
              <a:off x="1676160" y="3962520"/>
              <a:ext cx="1675440" cy="1736640"/>
              <a:chOff x="1676160" y="3962520"/>
              <a:chExt cx="1675440" cy="1736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056680" y="3962520"/>
                <a:ext cx="1294920" cy="1492200"/>
                <a:chOff x="2056680" y="3962520"/>
                <a:chExt cx="1294920" cy="1492200"/>
              </a:xfrm>
            </p:grpSpPr>
            <p:pic>
              <p:nvPicPr>
                <p:cNvPr id="66" name="server_olivier_boyer_0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4375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server_olivier_boyer_0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566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8" name="server_olivier_boyer_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761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533520" y="4647960"/>
              <a:ext cx="1675440" cy="1736640"/>
              <a:chOff x="533520" y="4647960"/>
              <a:chExt cx="1675440" cy="173664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040" y="4647960"/>
                <a:ext cx="1294920" cy="1492200"/>
                <a:chOff x="914040" y="4647960"/>
                <a:chExt cx="1294920" cy="1492200"/>
              </a:xfrm>
            </p:grpSpPr>
            <p:pic>
              <p:nvPicPr>
                <p:cNvPr id="71" name="server_olivier_boyer_0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949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server_olivier_boyer_0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40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3" name="server_olivier_boyer_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2133360" y="4403520"/>
              <a:ext cx="1675440" cy="1736640"/>
              <a:chOff x="2133360" y="4403520"/>
              <a:chExt cx="1675440" cy="17366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513880" y="4403520"/>
                <a:ext cx="1294920" cy="1492200"/>
                <a:chOff x="2513880" y="4403520"/>
                <a:chExt cx="1294920" cy="1492200"/>
              </a:xfrm>
            </p:grpSpPr>
            <p:pic>
              <p:nvPicPr>
                <p:cNvPr id="76" name="server_olivier_boyer_0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947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server_olivier_boyer_01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5138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8" name="server_olivier_boyer_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333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990360" y="5089320"/>
              <a:ext cx="1675440" cy="1736640"/>
              <a:chOff x="990360" y="5089320"/>
              <a:chExt cx="1675440" cy="17366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370880" y="5089320"/>
                <a:ext cx="1294920" cy="1492200"/>
                <a:chOff x="1370880" y="5089320"/>
                <a:chExt cx="1294920" cy="1492200"/>
              </a:xfrm>
            </p:grpSpPr>
            <p:pic>
              <p:nvPicPr>
                <p:cNvPr id="81" name="server_olivier_boyer_01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7517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server_olivier_boyer_01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3708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3" name="server_olivier_boyer_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9903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"/>
          <p:cNvSpPr/>
          <p:nvPr/>
        </p:nvSpPr>
        <p:spPr>
          <a:xfrm>
            <a:off x="5335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B @ Ta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2680" y="762120"/>
            <a:ext cx="2514600" cy="1949400"/>
            <a:chOff x="3352680" y="762120"/>
            <a:chExt cx="2514600" cy="1949400"/>
          </a:xfrm>
        </p:grpSpPr>
        <p:grpSp>
          <p:nvGrpSpPr>
            <p:cNvPr id="86" name=""/>
            <p:cNvGrpSpPr/>
            <p:nvPr/>
          </p:nvGrpSpPr>
          <p:grpSpPr>
            <a:xfrm>
              <a:off x="3352680" y="762120"/>
              <a:ext cx="1675440" cy="1736640"/>
              <a:chOff x="3352680" y="762120"/>
              <a:chExt cx="1675440" cy="1736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733200" y="762120"/>
                <a:ext cx="1294920" cy="1492200"/>
                <a:chOff x="3733200" y="762120"/>
                <a:chExt cx="1294920" cy="1492200"/>
              </a:xfrm>
            </p:grpSpPr>
            <p:pic>
              <p:nvPicPr>
                <p:cNvPr id="88" name="server_olivier_boyer_0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14080" y="7621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server_olivier_boyer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733200" y="9748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" name="server_olivier_boyer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52680" y="12193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4190760" y="974880"/>
              <a:ext cx="1676520" cy="1736640"/>
              <a:chOff x="4190760" y="974880"/>
              <a:chExt cx="1676520" cy="1736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571640" y="974880"/>
                <a:ext cx="1295640" cy="1492200"/>
                <a:chOff x="4571640" y="974880"/>
                <a:chExt cx="1295640" cy="1492200"/>
              </a:xfrm>
            </p:grpSpPr>
            <p:pic>
              <p:nvPicPr>
                <p:cNvPr id="93" name="server_olivier_boyer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2880" y="9748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server_olivier_boyer_0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571640" y="118764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5" name="server_olivier_boyer_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90760" y="1432080"/>
                <a:ext cx="91440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3200400" y="76320"/>
            <a:ext cx="26668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ice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4114800"/>
            <a:ext cx="8076600" cy="2133360"/>
            <a:chOff x="533520" y="4114800"/>
            <a:chExt cx="8076600" cy="2133360"/>
          </a:xfrm>
        </p:grpSpPr>
        <p:grpSp>
          <p:nvGrpSpPr>
            <p:cNvPr id="98" name=""/>
            <p:cNvGrpSpPr/>
            <p:nvPr/>
          </p:nvGrpSpPr>
          <p:grpSpPr>
            <a:xfrm>
              <a:off x="5334120" y="4114800"/>
              <a:ext cx="3276000" cy="2133360"/>
              <a:chOff x="5334120" y="4114800"/>
              <a:chExt cx="3276000" cy="2133360"/>
            </a:xfrm>
          </p:grpSpPr>
          <p:sp>
            <p:nvSpPr>
              <p:cNvPr id="99" name=""/>
              <p:cNvSpPr/>
              <p:nvPr/>
            </p:nvSpPr>
            <p:spPr>
              <a:xfrm>
                <a:off x="53341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03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41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41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41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20" y="4114800"/>
              <a:ext cx="3276000" cy="2133360"/>
              <a:chOff x="533520" y="4114800"/>
              <a:chExt cx="3276000" cy="2133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335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097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5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5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5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35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35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1981080"/>
            <a:ext cx="4647960" cy="3276360"/>
            <a:chOff x="2209680" y="1981080"/>
            <a:chExt cx="4647960" cy="3276360"/>
          </a:xfrm>
        </p:grpSpPr>
        <p:sp>
          <p:nvSpPr>
            <p:cNvPr id="117" name=""/>
            <p:cNvSpPr/>
            <p:nvPr/>
          </p:nvSpPr>
          <p:spPr>
            <a:xfrm>
              <a:off x="2209680" y="478980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38544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DRBL / Clonezil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9680" y="3853080"/>
              <a:ext cx="212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Kerrig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3853080"/>
              <a:ext cx="25200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P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432144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nux Ker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91708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244872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-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98108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 Dominant Index (GD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334120" y="3962520"/>
              <a:ext cx="3275280" cy="2863440"/>
              <a:chOff x="5334120" y="3962520"/>
              <a:chExt cx="3275280" cy="2863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6476760" y="3962520"/>
                <a:ext cx="1675440" cy="1736640"/>
                <a:chOff x="6476760" y="3962520"/>
                <a:chExt cx="1675440" cy="17366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6857280" y="3962520"/>
                  <a:ext cx="1294920" cy="1492200"/>
                  <a:chOff x="6857280" y="3962520"/>
                  <a:chExt cx="1294920" cy="1492200"/>
                </a:xfrm>
              </p:grpSpPr>
              <p:pic>
                <p:nvPicPr>
                  <p:cNvPr id="130" name="server_olivier_boyer_0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2381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" name="server_olivier_boyer_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72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2" name="server_olivier_boyer_0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767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" name=""/>
              <p:cNvGrpSpPr/>
              <p:nvPr/>
            </p:nvGrpSpPr>
            <p:grpSpPr>
              <a:xfrm>
                <a:off x="5334120" y="4647960"/>
                <a:ext cx="1675440" cy="1736640"/>
                <a:chOff x="5334120" y="4647960"/>
                <a:chExt cx="1675440" cy="17366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5714640" y="4647960"/>
                  <a:ext cx="1294920" cy="1492200"/>
                  <a:chOff x="5714640" y="4647960"/>
                  <a:chExt cx="1294920" cy="1492200"/>
                </a:xfrm>
              </p:grpSpPr>
              <p:pic>
                <p:nvPicPr>
                  <p:cNvPr id="135" name="server_olivier_boyer_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5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server_olivier_boyer_0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46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erver_olivier_boyer_0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41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8" name=""/>
              <p:cNvGrpSpPr/>
              <p:nvPr/>
            </p:nvGrpSpPr>
            <p:grpSpPr>
              <a:xfrm>
                <a:off x="6933960" y="4403520"/>
                <a:ext cx="1675440" cy="1736640"/>
                <a:chOff x="6933960" y="4403520"/>
                <a:chExt cx="1675440" cy="173664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7314480" y="4403520"/>
                  <a:ext cx="1294920" cy="1492200"/>
                  <a:chOff x="7314480" y="4403520"/>
                  <a:chExt cx="1294920" cy="1492200"/>
                </a:xfrm>
              </p:grpSpPr>
              <p:pic>
                <p:nvPicPr>
                  <p:cNvPr id="140" name="server_olivier_boyer_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53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1" name="server_olivier_boyer_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44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2" name="server_olivier_boyer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9339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5790960" y="5089320"/>
                <a:ext cx="1675440" cy="1736640"/>
                <a:chOff x="5790960" y="5089320"/>
                <a:chExt cx="1675440" cy="173664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6171480" y="5089320"/>
                  <a:ext cx="1294920" cy="1492200"/>
                  <a:chOff x="6171480" y="5089320"/>
                  <a:chExt cx="1294920" cy="1492200"/>
                </a:xfrm>
              </p:grpSpPr>
              <p:pic>
                <p:nvPicPr>
                  <p:cNvPr id="145" name="server_olivier_boyer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23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server_olivier_boyer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7" name="server_olivier_boyer_0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909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"/>
            <p:cNvSpPr/>
            <p:nvPr/>
          </p:nvSpPr>
          <p:spPr>
            <a:xfrm>
              <a:off x="53341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A @ HsinCh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33520" y="3962520"/>
              <a:ext cx="3275280" cy="2863440"/>
              <a:chOff x="533520" y="3962520"/>
              <a:chExt cx="3275280" cy="28634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676160" y="3962520"/>
                <a:ext cx="1675440" cy="1736640"/>
                <a:chOff x="1676160" y="3962520"/>
                <a:chExt cx="1675440" cy="173664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2056680" y="3962520"/>
                  <a:ext cx="1294920" cy="1492200"/>
                  <a:chOff x="2056680" y="3962520"/>
                  <a:chExt cx="1294920" cy="1492200"/>
                </a:xfrm>
              </p:grpSpPr>
              <p:pic>
                <p:nvPicPr>
                  <p:cNvPr id="152" name="server_olivier_boyer_0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75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3" name="server_olivier_boyer_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66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4" name="server_olivier_boyer_0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61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" name=""/>
              <p:cNvGrpSpPr/>
              <p:nvPr/>
            </p:nvGrpSpPr>
            <p:grpSpPr>
              <a:xfrm>
                <a:off x="533520" y="4647960"/>
                <a:ext cx="1675440" cy="1736640"/>
                <a:chOff x="533520" y="4647960"/>
                <a:chExt cx="1675440" cy="17366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914040" y="4647960"/>
                  <a:ext cx="1294920" cy="1492200"/>
                  <a:chOff x="914040" y="4647960"/>
                  <a:chExt cx="1294920" cy="1492200"/>
                </a:xfrm>
              </p:grpSpPr>
              <p:pic>
                <p:nvPicPr>
                  <p:cNvPr id="157" name="server_olivier_boyer_0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49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server_olivier_boyer_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0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9" name="server_olivier_boyer_0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335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2133360" y="4403520"/>
                <a:ext cx="1675440" cy="1736640"/>
                <a:chOff x="2133360" y="4403520"/>
                <a:chExt cx="1675440" cy="17366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513880" y="4403520"/>
                  <a:ext cx="1294920" cy="1492200"/>
                  <a:chOff x="2513880" y="4403520"/>
                  <a:chExt cx="1294920" cy="1492200"/>
                </a:xfrm>
              </p:grpSpPr>
              <p:pic>
                <p:nvPicPr>
                  <p:cNvPr id="162" name="server_olivier_boyer_0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47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server_olivier_boyer_0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38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4" name="server_olivier_boyer_0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1333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990360" y="5089320"/>
                <a:ext cx="1675440" cy="1736640"/>
                <a:chOff x="990360" y="5089320"/>
                <a:chExt cx="1675440" cy="17366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1370880" y="5089320"/>
                  <a:ext cx="1294920" cy="1492200"/>
                  <a:chOff x="1370880" y="5089320"/>
                  <a:chExt cx="1294920" cy="1492200"/>
                </a:xfrm>
              </p:grpSpPr>
              <p:pic>
                <p:nvPicPr>
                  <p:cNvPr id="167" name="server_olivier_boyer_0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517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server_olivier_boyer_0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708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9" name="server_olivier_boyer_0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903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0" name=""/>
            <p:cNvSpPr/>
            <p:nvPr/>
          </p:nvSpPr>
          <p:spPr>
            <a:xfrm>
              <a:off x="5335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B @ TaiCh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352680" y="762120"/>
              <a:ext cx="2514600" cy="1949400"/>
              <a:chOff x="3352680" y="762120"/>
              <a:chExt cx="2514600" cy="19494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3352680" y="762120"/>
                <a:ext cx="1675440" cy="1736640"/>
                <a:chOff x="3352680" y="762120"/>
                <a:chExt cx="1675440" cy="173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3733200" y="762120"/>
                  <a:ext cx="1294920" cy="1492200"/>
                  <a:chOff x="3733200" y="762120"/>
                  <a:chExt cx="1294920" cy="1492200"/>
                </a:xfrm>
              </p:grpSpPr>
              <p:pic>
                <p:nvPicPr>
                  <p:cNvPr id="174" name="server_olivier_boyer_0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080" y="7621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server_olivier_boyer_0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33200" y="9748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76" name="server_olivier_boyer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352680" y="121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"/>
              <p:cNvGrpSpPr/>
              <p:nvPr/>
            </p:nvGrpSpPr>
            <p:grpSpPr>
              <a:xfrm>
                <a:off x="4190760" y="974880"/>
                <a:ext cx="1676520" cy="1736640"/>
                <a:chOff x="4190760" y="974880"/>
                <a:chExt cx="1676520" cy="17366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571640" y="974880"/>
                  <a:ext cx="1295640" cy="1492200"/>
                  <a:chOff x="4571640" y="974880"/>
                  <a:chExt cx="1295640" cy="1492200"/>
                </a:xfrm>
              </p:grpSpPr>
              <p:pic>
                <p:nvPicPr>
                  <p:cNvPr id="179" name="server_olivier_boyer_0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52880" y="97488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" name="server_olivier_boyer_0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571640" y="118764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81" name="server_olivier_boyer_01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190760" y="14320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2" name=""/>
            <p:cNvSpPr/>
            <p:nvPr/>
          </p:nvSpPr>
          <p:spPr>
            <a:xfrm>
              <a:off x="3200400" y="76320"/>
              <a:ext cx="2666880" cy="76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ad Bala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ice F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2438280"/>
              <a:ext cx="8076960" cy="16765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360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Hadoop Distributed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2971800"/>
              <a:ext cx="7848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MapReduce 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2057400"/>
              <a:ext cx="8076960" cy="3808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Object Database - Hype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1676520"/>
              <a:ext cx="8076960" cy="380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-Oriented Architecture (SO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3352680"/>
              <a:ext cx="8384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195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308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88" idx="0"/>
              <a:endCxn id="193" idx="2"/>
            </p:cNvCxnSpPr>
            <p:nvPr/>
          </p:nvCxnSpPr>
          <p:spPr>
            <a:xfrm flipV="1">
              <a:off x="213336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91" idx="0"/>
              <a:endCxn id="194" idx="2"/>
            </p:cNvCxnSpPr>
            <p:nvPr/>
          </p:nvCxnSpPr>
          <p:spPr>
            <a:xfrm flipV="1">
              <a:off x="700992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60199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162920" y="28954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1295280"/>
              <a:ext cx="8076960" cy="3812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Web Application Framework - Ruby on Rails (R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3372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01028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33520" y="4114800"/>
              <a:ext cx="8076600" cy="2133360"/>
              <a:chOff x="533520" y="4114800"/>
              <a:chExt cx="8076600" cy="2133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334120" y="4114800"/>
                <a:ext cx="3276000" cy="2133360"/>
                <a:chOff x="5334120" y="4114800"/>
                <a:chExt cx="3276000" cy="2133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341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341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103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41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341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341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341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33520" y="4114800"/>
                <a:ext cx="3276000" cy="2133360"/>
                <a:chOff x="533520" y="4114800"/>
                <a:chExt cx="3276000" cy="2133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335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35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097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5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35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35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335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35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1:27:16Z</dcterms:created>
  <dc:creator>Human</dc:creator>
  <dc:description/>
  <dc:language>en-US</dc:language>
  <cp:lastModifiedBy>Human</cp:lastModifiedBy>
  <dcterms:modified xsi:type="dcterms:W3CDTF">2008-03-31T07:10:31Z</dcterms:modified>
  <cp:revision>12</cp:revision>
  <dc:subject/>
  <dc:title>PowerPoint 簡報</dc:title>
</cp:coreProperties>
</file>