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9C9-25E2-47BD-BC88-B85812EF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6E6-B152-44BB-9045-629350BE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B8B-EEB0-4D1A-83FD-8F55379D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7BA-0598-47BF-868A-07763B40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BEF-8ADE-4481-B643-93580448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46C-166E-4EE0-BE68-B249FE00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31B-FCFE-4764-B36A-A3BB0474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62A-58BF-4D80-826A-ABE1B0F4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9F6-4DB9-471B-A834-15F2FAF0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718-D443-4EE4-B7C6-AED21BD9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C9F-159B-4A09-816D-F3FB37A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67D-AC5D-44BB-95D9-15E41BA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68F4-C0F4-4012-9BF2-A6D9F275A44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349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3718080"/>
            <a:ext cx="122580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 flipH="1">
            <a:off x="4896000" y="3213000"/>
            <a:ext cx="35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2987640" y="4149720"/>
            <a:ext cx="115272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5" idx="4"/>
            <a:endCxn id="41" idx="0"/>
          </p:cNvCxnSpPr>
          <p:nvPr/>
        </p:nvCxnSpPr>
        <p:spPr>
          <a:xfrm flipH="1">
            <a:off x="4931280" y="1484280"/>
            <a:ext cx="36360" cy="86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35280" y="220500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7664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7" idx="2"/>
            <a:endCxn id="48" idx="1"/>
          </p:cNvCxnSpPr>
          <p:nvPr/>
        </p:nvCxnSpPr>
        <p:spPr>
          <a:xfrm flipH="1">
            <a:off x="3960000" y="3068640"/>
            <a:ext cx="972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5364000" y="4149720"/>
            <a:ext cx="122580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7" idx="2"/>
            <a:endCxn id="50" idx="1"/>
          </p:cNvCxnSpPr>
          <p:nvPr/>
        </p:nvCxnSpPr>
        <p:spPr>
          <a:xfrm>
            <a:off x="4932360" y="3068280"/>
            <a:ext cx="104544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476360" y="472428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869000"/>
            <a:ext cx="1511280" cy="863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4" idx="4"/>
            <a:endCxn id="47" idx="0"/>
          </p:cNvCxnSpPr>
          <p:nvPr/>
        </p:nvCxnSpPr>
        <p:spPr>
          <a:xfrm flipH="1">
            <a:off x="4931640" y="1484280"/>
            <a:ext cx="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134136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Master (like 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4508640"/>
            <a:ext cx="122544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4724280"/>
            <a:ext cx="1225440" cy="1079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1079280" cy="1008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0"/>
            <a:endCxn id="59" idx="2"/>
          </p:cNvCxnSpPr>
          <p:nvPr/>
        </p:nvCxnSpPr>
        <p:spPr>
          <a:xfrm flipH="1" flipV="1" rot="5400000">
            <a:off x="3059280" y="-26640"/>
            <a:ext cx="361080" cy="237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4"/>
            <a:endCxn id="56" idx="3"/>
          </p:cNvCxnSpPr>
          <p:nvPr/>
        </p:nvCxnSpPr>
        <p:spPr>
          <a:xfrm rot="5400000">
            <a:off x="4012560" y="818640"/>
            <a:ext cx="289440" cy="16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3975120" y="18381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t * from Table #1 where Row =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080" y="5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292640"/>
            <a:ext cx="1152720" cy="10796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5640" y="4005360"/>
            <a:ext cx="1152360" cy="10792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#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14172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2852640"/>
            <a:ext cx="2592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RegionServ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9" idx="6"/>
            <a:endCxn id="66" idx="3"/>
          </p:cNvCxnSpPr>
          <p:nvPr/>
        </p:nvCxnSpPr>
        <p:spPr>
          <a:xfrm flipH="1">
            <a:off x="4427280" y="980640"/>
            <a:ext cx="1080000" cy="2592720"/>
          </a:xfrm>
          <a:prstGeom prst="bentConnector3">
            <a:avLst>
              <a:gd name="adj1" fmla="val -211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4" idx="0"/>
            <a:endCxn id="59" idx="5"/>
          </p:cNvCxnSpPr>
          <p:nvPr/>
        </p:nvCxnSpPr>
        <p:spPr>
          <a:xfrm flipH="1" flipV="1" rot="5400000">
            <a:off x="2005560" y="949680"/>
            <a:ext cx="2956680" cy="3729600"/>
          </a:xfrm>
          <a:prstGeom prst="bentConnector3">
            <a:avLst>
              <a:gd name="adj1" fmla="val 475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6:32:12Z</dcterms:created>
  <dc:creator>chtti</dc:creator>
  <dc:description/>
  <dc:language>en-US</dc:language>
  <cp:lastModifiedBy>chtti</cp:lastModifiedBy>
  <dcterms:modified xsi:type="dcterms:W3CDTF">2012-06-25T07:25:45Z</dcterms:modified>
  <cp:revision>2</cp:revision>
  <dc:subject/>
  <dc:title>投影片 1</dc:title>
</cp:coreProperties>
</file>