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43C-0B37-462B-9D03-BD50FE48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74D-E210-4180-AA96-77412B28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354-A439-4223-A908-0E3F622E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BBA5-C5C1-46AD-9CDC-8FF88741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055-85B0-42A2-A3BD-54C85F43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A51-EA1B-41A3-993F-32DD3EB8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6FBD-5D44-4937-B074-176FD4B0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E8B-8665-49AB-B333-554CCDB1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9C40-D40E-43E5-8667-690A9B09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F079-8182-4E77-9D4A-A6A6B3C2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79D-0155-49D0-9AF8-CAF4AB10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303-AFCD-4800-9DFB-9D34DE96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980A-2372-4EA1-A5E2-6664F0BC17D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2349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82920" y="3718080"/>
            <a:ext cx="122580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 flipH="1">
            <a:off x="4896000" y="3213000"/>
            <a:ext cx="35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" name=""/>
          <p:cNvSpPr/>
          <p:nvPr/>
        </p:nvSpPr>
        <p:spPr>
          <a:xfrm>
            <a:off x="2987640" y="4149720"/>
            <a:ext cx="115272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5" idx="4"/>
            <a:endCxn id="41" idx="0"/>
          </p:cNvCxnSpPr>
          <p:nvPr/>
        </p:nvCxnSpPr>
        <p:spPr>
          <a:xfrm flipH="1">
            <a:off x="4931280" y="1484280"/>
            <a:ext cx="36360" cy="86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5280" y="220500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407664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7" idx="2"/>
            <a:endCxn id="48" idx="1"/>
          </p:cNvCxnSpPr>
          <p:nvPr/>
        </p:nvCxnSpPr>
        <p:spPr>
          <a:xfrm flipH="1">
            <a:off x="3960000" y="3068640"/>
            <a:ext cx="972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5364000" y="4149720"/>
            <a:ext cx="122580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7" idx="2"/>
            <a:endCxn id="50" idx="1"/>
          </p:cNvCxnSpPr>
          <p:nvPr/>
        </p:nvCxnSpPr>
        <p:spPr>
          <a:xfrm>
            <a:off x="4932360" y="3068280"/>
            <a:ext cx="104544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1476360" y="472428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486900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7" idx="0"/>
          </p:cNvCxnSpPr>
          <p:nvPr/>
        </p:nvCxnSpPr>
        <p:spPr>
          <a:xfrm flipH="1">
            <a:off x="4931640" y="1484280"/>
            <a:ext cx="35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1341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Master (like D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4508640"/>
            <a:ext cx="122544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472428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6" idx="0"/>
            <a:endCxn id="59" idx="2"/>
          </p:cNvCxnSpPr>
          <p:nvPr/>
        </p:nvCxnSpPr>
        <p:spPr>
          <a:xfrm flipH="1" flipV="1" rot="5400000">
            <a:off x="3059280" y="-26640"/>
            <a:ext cx="361080" cy="237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9" idx="4"/>
            <a:endCxn id="56" idx="3"/>
          </p:cNvCxnSpPr>
          <p:nvPr/>
        </p:nvCxnSpPr>
        <p:spPr>
          <a:xfrm rot="5400000">
            <a:off x="4012560" y="818640"/>
            <a:ext cx="289440" cy="16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975120" y="183816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t * from Table #1 where Row =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080" y="5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292640"/>
            <a:ext cx="1152720" cy="1079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5640" y="4005360"/>
            <a:ext cx="1152360" cy="10792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14172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285264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9" idx="6"/>
            <a:endCxn id="66" idx="3"/>
          </p:cNvCxnSpPr>
          <p:nvPr/>
        </p:nvCxnSpPr>
        <p:spPr>
          <a:xfrm flipH="1">
            <a:off x="4427280" y="980640"/>
            <a:ext cx="1080000" cy="2592720"/>
          </a:xfrm>
          <a:prstGeom prst="bentConnector3">
            <a:avLst>
              <a:gd name="adj1" fmla="val -211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4" idx="0"/>
            <a:endCxn id="59" idx="5"/>
          </p:cNvCxnSpPr>
          <p:nvPr/>
        </p:nvCxnSpPr>
        <p:spPr>
          <a:xfrm flipH="1" flipV="1" rot="5400000">
            <a:off x="2005560" y="949680"/>
            <a:ext cx="2956680" cy="3729600"/>
          </a:xfrm>
          <a:prstGeom prst="bentConnector3">
            <a:avLst>
              <a:gd name="adj1" fmla="val 475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6:32:12Z</dcterms:created>
  <dc:creator>chtti</dc:creator>
  <dc:description/>
  <dc:language>en-US</dc:language>
  <cp:lastModifiedBy>chtti</cp:lastModifiedBy>
  <dcterms:modified xsi:type="dcterms:W3CDTF">2012-06-25T07:25:45Z</dcterms:modified>
  <cp:revision>2</cp:revision>
  <dc:subject/>
  <dc:title>投影片 1</dc:title>
</cp:coreProperties>
</file>